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13F-376A-4604-A15F-BA8C34DC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C34-72CF-447F-8202-0604F89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EB7-E447-4420-B925-6D4407EF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25B-B9DD-45BE-8CAF-E5DD9EF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64EE-F3DF-4C2E-B52B-7E736C59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2AF-04A7-45E3-B9AA-431BBD6F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135-4219-4438-8745-1969C03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466B-20F6-4E07-9543-D0FF63A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FD1-EB23-445F-A209-45818E9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96E3-CB42-4F61-A19A-0DA7840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E7A-7D5F-4097-AEC8-6DD92BB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00A-A8A8-4069-83CF-72B542D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E9FF-9952-4ACA-BBA5-AE61B5DF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6BF6-E2FC-4E4A-9C74-81FDEA0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C262-C251-438F-ACA2-9DEFDAF2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49FC-0636-4D11-A51D-472F253D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940-D1C4-45B6-9AD8-8BDF68E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9FA8-BA4E-43C2-A367-76CEF0D5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5A8F-784B-4B0B-8828-8055AFD0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A010-3464-42AF-ABA0-686B9F5F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E623-6649-4758-9DDF-821E85FE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7DAA-7D21-4229-8180-45BB33B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209-E910-4E53-9FE8-815B13E7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C144-D2A6-4AF3-9ED6-F5EA9E6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243B-4CF8-4EBE-87E2-02E9A40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6E63-FF84-4A47-B5B3-5313D333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CE68-0037-4C1B-A7ED-1C61912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477F-31CC-436B-93E5-29C508E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3F37-37BB-4316-B218-40FBA42B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5292-FE71-441B-A663-095A4934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FD6A-3660-4BB6-9BF0-8383B5E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958F-8878-4CFF-B41C-7D10C6D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0EEE-1A3B-4FF8-AC61-B459669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2F1-A347-43F0-A6AF-07658AE2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9E80-3041-4CFF-83B6-DADBEDC7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4C96-E648-4B3A-B25B-1C26DE32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1B26-9EFA-44DA-BD9D-83E8F763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C502-C904-41BB-8976-B9BD62E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7E2B-7858-44A6-ACAD-0953E29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309F-8E98-4E84-9F14-C68782A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E383-0DE3-4959-85F5-D52CF16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3A34-1E85-4E54-8FC3-C716E6BA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3FD1-51E5-4358-9DDD-A9C9B4B4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027-AFA8-44EA-B1D3-D4362140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3CA-C6CA-488F-9715-AF07BCE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CE4-B347-456F-944A-8B6F53D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67C-43BD-481C-9CF2-6721581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220-EDC7-4227-B205-B7EF7FC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2F8-5E7C-4379-9517-764E18AA12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BD0-6C17-4338-BCCB-CC5777948C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F775-92D5-423C-9317-6A6903449F3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D35-FC9D-4252-8477-1F21AB132B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C5B-C58A-4BB7-9934-819D65CA27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61C-BB1D-4659-87D6-1A7BC928AA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DB6D-1C4F-4365-A6EE-631C90C71CE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314-F470-4FAB-BCFB-C32F8073E0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4761000" y="2521080"/>
            <a:ext cx="3940200" cy="4851360"/>
          </a:xfrm>
          <a:prstGeom prst="rect">
            <a:avLst/>
          </a:prstGeom>
          <a:ln w="0">
            <a:noFill/>
          </a:ln>
        </p:spPr>
      </p:pic>
      <p:sp>
        <p:nvSpPr>
          <p:cNvPr id="171" name="椭圆 5"/>
          <p:cNvSpPr/>
          <p:nvPr/>
        </p:nvSpPr>
        <p:spPr>
          <a:xfrm>
            <a:off x="3903840" y="91440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0880" y="1158480"/>
            <a:ext cx="1403280" cy="31734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逐浪马列大楷体"/>
                <a:ea typeface="逐浪马列大楷体"/>
              </a:rPr>
              <a:t>经验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椭圆 5"/>
          <p:cNvSpPr/>
          <p:nvPr/>
        </p:nvSpPr>
        <p:spPr>
          <a:xfrm>
            <a:off x="3903840" y="1557360"/>
            <a:ext cx="3963960" cy="380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38400" y="2971440"/>
            <a:ext cx="3894120" cy="11811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A_MH_Others_11"/>
          <p:cNvSpPr/>
          <p:nvPr/>
        </p:nvSpPr>
        <p:spPr>
          <a:xfrm>
            <a:off x="8420040" y="1092240"/>
            <a:ext cx="1087560" cy="1092240"/>
          </a:xfrm>
          <a:prstGeom prst="ellipse">
            <a:avLst/>
          </a:prstGeom>
          <a:solidFill>
            <a:srgbClr val="d0cccc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57"/>
          <p:cNvSpPr/>
          <p:nvPr/>
        </p:nvSpPr>
        <p:spPr>
          <a:xfrm>
            <a:off x="9317160" y="1300320"/>
            <a:ext cx="2087280" cy="2006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A_MH_Others_12"/>
          <p:cNvSpPr/>
          <p:nvPr/>
        </p:nvSpPr>
        <p:spPr>
          <a:xfrm>
            <a:off x="9169560" y="2479680"/>
            <a:ext cx="7207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CONT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3"/>
          <p:cNvGrpSpPr/>
          <p:nvPr/>
        </p:nvGrpSpPr>
        <p:grpSpPr>
          <a:xfrm>
            <a:off x="2336760" y="2027160"/>
            <a:ext cx="5753160" cy="2493720"/>
            <a:chOff x="2336760" y="2027160"/>
            <a:chExt cx="5753160" cy="2493720"/>
          </a:xfrm>
        </p:grpSpPr>
        <p:grpSp>
          <p:nvGrpSpPr>
            <p:cNvPr id="177" name="组合 36"/>
            <p:cNvGrpSpPr/>
            <p:nvPr/>
          </p:nvGrpSpPr>
          <p:grpSpPr>
            <a:xfrm>
              <a:off x="2336760" y="2027160"/>
              <a:ext cx="5753160" cy="684000"/>
              <a:chOff x="2336760" y="2027160"/>
              <a:chExt cx="5753160" cy="684000"/>
            </a:xfrm>
          </p:grpSpPr>
          <p:sp>
            <p:nvSpPr>
              <p:cNvPr id="178" name="文本框 37"/>
              <p:cNvSpPr/>
              <p:nvPr/>
            </p:nvSpPr>
            <p:spPr>
              <a:xfrm>
                <a:off x="2336760" y="202716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01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38"/>
              <p:cNvSpPr/>
              <p:nvPr/>
            </p:nvSpPr>
            <p:spPr>
              <a:xfrm>
                <a:off x="3076560" y="2183760"/>
                <a:ext cx="5013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简单自我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40"/>
            <p:cNvGrpSpPr/>
            <p:nvPr/>
          </p:nvGrpSpPr>
          <p:grpSpPr>
            <a:xfrm>
              <a:off x="2336760" y="2931480"/>
              <a:ext cx="5717160" cy="684000"/>
              <a:chOff x="2336760" y="2931480"/>
              <a:chExt cx="5717160" cy="684000"/>
            </a:xfrm>
          </p:grpSpPr>
          <p:sp>
            <p:nvSpPr>
              <p:cNvPr id="181" name="文本框 41"/>
              <p:cNvSpPr/>
              <p:nvPr/>
            </p:nvSpPr>
            <p:spPr>
              <a:xfrm>
                <a:off x="2336760" y="2931480"/>
                <a:ext cx="7398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02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42"/>
              <p:cNvSpPr/>
              <p:nvPr/>
            </p:nvSpPr>
            <p:spPr>
              <a:xfrm>
                <a:off x="3112560" y="3064320"/>
                <a:ext cx="4941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学校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44"/>
            <p:cNvGrpSpPr/>
            <p:nvPr/>
          </p:nvGrpSpPr>
          <p:grpSpPr>
            <a:xfrm>
              <a:off x="2336760" y="3836880"/>
              <a:ext cx="5753160" cy="684000"/>
              <a:chOff x="2336760" y="3836880"/>
              <a:chExt cx="5753160" cy="684000"/>
            </a:xfrm>
          </p:grpSpPr>
          <p:sp>
            <p:nvSpPr>
              <p:cNvPr id="184" name="文本框 45"/>
              <p:cNvSpPr/>
              <p:nvPr/>
            </p:nvSpPr>
            <p:spPr>
              <a:xfrm>
                <a:off x="2336760" y="383688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03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46"/>
              <p:cNvSpPr/>
              <p:nvPr/>
            </p:nvSpPr>
            <p:spPr>
              <a:xfrm>
                <a:off x="3148920" y="3970440"/>
                <a:ext cx="494100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考研准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01160" y="1761840"/>
            <a:ext cx="1403280" cy="17002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标题 60"/>
          <p:cNvSpPr/>
          <p:nvPr/>
        </p:nvSpPr>
        <p:spPr>
          <a:xfrm>
            <a:off x="8089920" y="1173240"/>
            <a:ext cx="1403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9690120" y="2860560"/>
            <a:ext cx="1847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191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195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8"/>
          <p:cNvSpPr/>
          <p:nvPr/>
        </p:nvSpPr>
        <p:spPr>
          <a:xfrm>
            <a:off x="4559400" y="814320"/>
            <a:ext cx="268920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"/>
          <p:cNvSpPr/>
          <p:nvPr/>
        </p:nvSpPr>
        <p:spPr>
          <a:xfrm>
            <a:off x="1982880" y="1890720"/>
            <a:ext cx="9024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姓名：彭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科专业：生物制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院校：中国药科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专业：微生物与生化药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初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2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复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07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录取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34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796825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05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09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8"/>
          <p:cNvSpPr/>
          <p:nvPr/>
        </p:nvSpPr>
        <p:spPr>
          <a:xfrm>
            <a:off x="4751280" y="1079640"/>
            <a:ext cx="268776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1805040" y="2347920"/>
            <a:ext cx="92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药科大学坐落于古都南京。是一所历史悠久、特色鲜明、学风优良、在药学界享有盛誉的教育部直属、国家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程”和国家“双一流”建设高校（一流学科），是我国首批具有博士、硕士学位授予权的高等学校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19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23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考研准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11"/>
          <p:cNvGrpSpPr/>
          <p:nvPr/>
        </p:nvGrpSpPr>
        <p:grpSpPr>
          <a:xfrm>
            <a:off x="520560" y="730080"/>
            <a:ext cx="5759640" cy="3229920"/>
            <a:chOff x="520560" y="730080"/>
            <a:chExt cx="5759640" cy="3229920"/>
          </a:xfrm>
        </p:grpSpPr>
        <p:sp>
          <p:nvSpPr>
            <p:cNvPr id="229" name="TextBox 28"/>
            <p:cNvSpPr/>
            <p:nvPr/>
          </p:nvSpPr>
          <p:spPr>
            <a:xfrm>
              <a:off x="1461600" y="730080"/>
              <a:ext cx="3642480" cy="642600"/>
            </a:xfrm>
            <a:prstGeom prst="rect">
              <a:avLst/>
            </a:prstGeom>
            <a:solidFill>
              <a:srgbClr val="55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Mangal"/>
                </a:rPr>
                <a:t>考研准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4"/>
            <p:cNvSpPr/>
            <p:nvPr/>
          </p:nvSpPr>
          <p:spPr>
            <a:xfrm>
              <a:off x="520560" y="1916280"/>
              <a:ext cx="575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初试准备（资料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英语：英语真题、何凯文的阅读、何凯文绝密考场</a:t>
              </a:r>
              <a:r>
                <a:rPr b="0" lang="en-US" sz="3200" spc="-1" strike="noStrike">
                  <a:solidFill>
                    <a:srgbClr val="404040"/>
                  </a:solidFill>
                  <a:latin typeface="Arial"/>
                </a:rPr>
                <a:t>8</a:t>
              </a: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套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政治：全程跟的蒋中挺，全部用的他的资料，个人感觉还不错，强推客观题应试宝典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专业课：我的专业课是生化、有机、分析和生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7432560" y="1469880"/>
            <a:ext cx="3632400" cy="4476960"/>
          </a:xfrm>
          <a:prstGeom prst="rect">
            <a:avLst/>
          </a:prstGeom>
          <a:ln w="0">
            <a:noFill/>
          </a:ln>
        </p:spPr>
      </p:pic>
      <p:sp>
        <p:nvSpPr>
          <p:cNvPr id="232" name="椭圆 5"/>
          <p:cNvSpPr/>
          <p:nvPr/>
        </p:nvSpPr>
        <p:spPr>
          <a:xfrm>
            <a:off x="6811920" y="120636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8"/>
          <p:cNvSpPr/>
          <p:nvPr/>
        </p:nvSpPr>
        <p:spPr>
          <a:xfrm>
            <a:off x="4284720" y="709560"/>
            <a:ext cx="4494240" cy="4899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Mangal"/>
              </a:rPr>
              <a:t>准备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"/>
          <p:cNvSpPr/>
          <p:nvPr/>
        </p:nvSpPr>
        <p:spPr>
          <a:xfrm>
            <a:off x="1019160" y="2203560"/>
            <a:ext cx="108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每天背单词，然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阅读真题（每天两篇或者是四篇）第一遍精刷，大概刷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遍的样子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完型和新题型（大概做了两边）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做英语翻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政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一直跟着文都的班，真正的系统的复习应该是文都暑假的集训，这个阶段就把政治的所有科目通拉了两遍，开始刷蒋中挺的八百题，有些人也开始刷肖秀荣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题。（第一遍精刷，用铅笔）同时配合记蒋中挺的客观题应试宝典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中旬刷第二检查自己的复习结果，找出自己的薄弱点，精准攻克。刷完后就开始背蒋中挺冲刺考点必背、刷蒋中挺的真题预测百分百，后期等蒋五或者肖四、肖八出来，把选择题做了，理解清楚，直接背大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专业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这个根据个人情况安排吧，实话说我的专业课看分数就很糟糕，所以这个我也没有什么好给你们交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>kingsoft</dc:creator>
  <dc:description/>
  <dc:language>en-US</dc:language>
  <cp:lastModifiedBy>fool</cp:lastModifiedBy>
  <dcterms:modified xsi:type="dcterms:W3CDTF">2019-04-07T02:43:25Z</dcterms:modified>
  <cp:revision>3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