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005-9387-4D8F-95E5-D845E233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1BA-5FDC-46FC-A842-EFAF267A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B83-678F-42CA-8DA1-8692045C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C6D-14C8-4B7E-B3BC-38E5100A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83F-A7CD-4A1C-B675-57CE7C2C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C85F-AF4C-49D4-A0AD-47028FF4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E8D2-F03C-4643-8B15-38896F73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D324-E4DA-41BB-87A7-C5EA493E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32A9-73AC-4162-83D0-F6BDF5C1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8DA2-026D-490C-B09B-AED85542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3427-2CD0-4BE0-A049-8A5553C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B5E-AF10-4544-B7EC-5081161A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B628-3F51-44B9-8D48-54F08C67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5701-5774-42AF-81DE-27AC9DE6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CA46-4C71-47A0-9D19-1EAB43A8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88B6-A00C-4F87-B652-2C1946E9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DD91-DD6E-4D92-BC3E-B4A1709D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A991-749C-4C0E-960F-E46176F9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3929-4551-42C6-8191-5A99CE9B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3855-98D5-4BAB-959F-EB9D898C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3988-CBC2-4F80-AA6C-BED9C5A2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6856-0E65-480E-B343-20D12B37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780-97CE-437E-88CB-A157E8C1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5192-6626-4B3B-9736-2A6F65C9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E174-2F12-4F99-B23D-AE41AE2C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039A-4AB5-41E1-8FDE-7332A214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FA55-9175-4B98-B1C4-D3981ED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68A2-7316-49CC-AA38-98AACCE2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D66F-14F3-4D3C-A46C-FE5D3F10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3203-47AD-42F3-A2DD-30A44CD4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F37F8-63A5-4EA4-BEC4-E81A3B46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E10B-0FAA-4F4A-98CF-2761805D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5382-462A-45D4-B771-EE73749D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1FE-EAF2-4956-AACF-D55C88D4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5432-C7C2-48F4-BE52-1AC927F0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F72E-FC1B-4E56-A7E5-CE0D6D4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9465E-A331-40F5-AD05-DB8A980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BBEF-3377-444C-8C5B-C76B56FD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62DF-475E-4835-A4CE-CFDBD0E3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D249-9FEE-453F-A82C-99E12857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CE524-7868-4EF7-ADA0-EFBB894F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3834-2579-4AEE-98C8-C778FD09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240A-E0A8-4E3C-B7D2-5D67C669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BD5-A8A0-4A36-9130-7111B20C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E57-101B-4571-97E9-4420AA3F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15B-4E48-4AF8-AE17-A0E0AB8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AB0-8F66-4DBF-9596-DCA00FD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53F-4769-46F3-80BE-FACDBBD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2580-0FA7-4F2E-880E-14B048ED5999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382F-2E08-4FD8-9250-E3738FE02D59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FF21-704E-48C2-B01B-8C91AB4111DB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5424-F15C-4C87-8964-1267CC5520EF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标题 1" descr=""/>
          <p:cNvPicPr/>
          <p:nvPr/>
        </p:nvPicPr>
        <p:blipFill>
          <a:blip r:embed="rId1"/>
          <a:stretch/>
        </p:blipFill>
        <p:spPr>
          <a:xfrm>
            <a:off x="536400" y="1206360"/>
            <a:ext cx="7345440" cy="1871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926120" cy="2648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姓名：曹洪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专业：应用化学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5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报考学校：南京工业大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4.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保持心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心态很重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在备战考研的过程中，会遇到各种各样的问题，但一定要保证心态的平稳。每年考研都会有很多人这样那样的原因，坚持不下去，中途放弃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遇到烦心事，可以适当放松一下，或者觉着今天复习的很好，可以适当奖励吃顿好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360" y="2781360"/>
            <a:ext cx="842472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nstantia"/>
              </a:rPr>
              <a:t>祝大家考研成功上岸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选择学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主要是向学长学姐，还有同学打听想报考院校信息，，最后理了理，综合考虑学校名气，城市地理位置，以后发展前景，地域有没有压分，歧视外省等因素，排了个一二三，最终选择三个理想院校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可以向老师请教，你有意向的学校，专业怎么样，或者让老师向你推荐，毕竟他们经验丰富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可以着重考虑我们学校每年师兄，师姐考上的学校。因为一是有熟悉的人，二是这些学校不太会存在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压分，歧视的情况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如何复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时间安排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6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基础阶段，着重基础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-8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强化阶段，做题，用实践检验一阶段的复习成果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左右。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最重要的阶段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真题阶段，英语，数学，专业课刷真题，多刷几遍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-14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冲刺阶段，模拟练习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-14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临近考前可以适当调整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000" y="691920"/>
            <a:ext cx="821844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英语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词汇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每天都要背单词，时间不用长，单词不能停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阅读是考研英语中分最重的，多练，多练，多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英语真题最重要，总结出现过的高频词汇，尤其是阅读中的，熟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对于英语来说，后期不要做除作文外的模拟题，多做几遍真题。模拟题的水平永远考研真题的水平。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1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背英语作文，并且一定要动手写，动手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用书：恋练有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华研外语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阅读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真题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何凯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写作高分攻略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11280" y="907920"/>
            <a:ext cx="813744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数学（练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打好基础，无论你选择的是张宇，汤家凤还是李永乐（差别不大）在一轮复习时都要打好基础，重视基本定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在暑假的冲刺阶段，是数学的最重要的阶段，多刷题，多见见题型，可以做汤家凤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0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和李永乐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6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（全是选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填空）这时候也是错的最多阶段，不要灰心，多总结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数学的真题最好在规定的时间内练习，注意观察每年所考的知识点，总结高频考点（无穷小替换，微分方程等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000" y="980640"/>
            <a:ext cx="82184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模拟阶段，用模拟题来做限时训练，考察自己应试能力。张宇的很灵活也是最难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套卷还可以做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套卷太难了（有兴趣的可以挑战）。汤家凤的还可以，难度中等，但每一张的题型感觉有些类似。合工大超越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共创比较简单，但这只有电子版的，有时间的可以练练。最后李林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+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难度中等偏上，有一些灵活性，我比较喜欢的（个人感觉，仅供参考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用书：李永乐复习全书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汤家凤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00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李永乐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60+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真题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押题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4920" y="620280"/>
            <a:ext cx="83026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背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不用开始太早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都可以。可以跟着肖秀荣老师的复习全书，跟着视频看，尤其是他着重强调的内容，同时配套做他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0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题，每天看一章并做配套的练习题，大概两个半月可以看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是唯一不用做真题的科目，上一年的考过的内容，今年基本不会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的背诵内容较多，模拟题推荐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尤其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用书：肖秀荣三件套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徐涛核心考点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691920"/>
            <a:ext cx="829152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专业课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找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学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当你定好考研目标院校后，一定要及时的去查询这个学校的招生专业目录（在研招网上都可以查到）了解专业课考试科目，招生人数，以及专业课书的版本（很重要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能找到历年真题最好，专业课每年的重点变化不会太大，通过历年真题，可以了解题型和重点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最好能找到的学长，学姐，他们的复习资料都是很全的，能节省时间，精力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专业课比较重要，复试时，比较看重，一定要认真学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制定适合自己的计划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 不要人云亦云，制定适合自己的计划，会事半功倍。可以借鉴，但不要照搬别人的复习计划。适合自己的才是最好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比如：我上午状态好，    下午不好。那就早上早起，晚上早点回来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）制定计划后，一定要坚持执行。不要经常和别人比较，按自己的计划来，适合自己的才是最好的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根据自己的复习进度，及时的调整自己觉得计划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比如：最后一个月根据考研日程安排，调整为上午复习政治，数学，下午复习英语，专业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2:39:57Z</dcterms:created>
  <dc:creator>Administrator</dc:creator>
  <dc:description/>
  <dc:language>en-US</dc:language>
  <cp:lastModifiedBy>Administrator</cp:lastModifiedBy>
  <dcterms:modified xsi:type="dcterms:W3CDTF">2019-04-10T03:11:27Z</dcterms:modified>
  <cp:revision>14</cp:revision>
  <dc:subject/>
  <dc:title>考研</dc:title>
</cp:coreProperties>
</file>