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C2934-5EB2-4ADD-BFEB-082E3719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F813-C6F1-41DD-A326-CAB5E35C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36D1A-F8CB-4898-8CFF-825625BE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EE9B9-95C8-4E73-B561-50D1CA7C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1D1A5-9E32-403B-9378-2E140DC9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48D2F-62BE-4621-A9D5-92466428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FBDD5-68DB-42FC-AE81-C9110C00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D8D78-20AC-4E8E-9493-95655F25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577D5-BB10-444C-ADCC-7F7ADD81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EBCFB-03C0-4F55-90A5-81F4BE2B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25C10-1E5B-4AD9-8AE6-A7D90A31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E22B6-662E-4382-AFFB-025F4D13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1F44-8F37-468D-938C-025DCAFB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4829D-00AD-4FB2-B987-73AE06E8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DB3FB-829F-44A0-A677-0FE68E16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190C3-F422-4BCE-8955-E9DD6F93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6F2A3-DE59-405A-BC15-D6F85F1F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ABC12-E9A5-419F-BE23-28FFDA06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728DD-7D57-44A6-9EDE-FDF8382F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D7AAE-1FD3-4DCF-9F6A-E4814D9B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B7534-72BE-4ABF-B5EE-A38155EC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485A7-6C2D-40BD-81D8-6AF4EEAD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F45A7-8769-4124-B7F1-30F6F9DF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698A-C1B0-45CC-8C2C-C5EEB821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3AC37-8531-4877-B84E-E69C3D66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D2CF1-8074-47D1-98CD-5FA459E0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7F0EB-0B83-481F-9047-3B1A1FC7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49C31-4982-4764-8ECF-23D2E0DD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DEC10-BEB4-4AD3-9D19-7B160716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BC5A3-1CB3-4C45-BC06-A20A11FA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E8E32-FA24-4058-A829-A7EEE093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9F257-A46F-400F-82B0-F0516A19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0D18E-2689-4E81-80AE-697F551B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B6F3C-A819-42FE-ACB1-D87012DF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D13F-7FDA-4C7A-B2AB-41047104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8924E-CF8C-4582-AEE3-D6A11A4B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46F37-9129-4413-99B7-E523FADD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26257-1BD6-4FCA-8BF4-3F44A51E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28373-C616-44DB-B6B8-470DB614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C7739-BA99-44F7-B4D3-CCB58342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52CD8-48D3-477A-81CF-9507F9E9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9B073-9CF8-4D30-9EC9-440503B4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D9CB4-F5B2-45FB-8D42-BE7D0D99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FF037-90B3-4A6B-B8F9-93E711CC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1A537-3101-410C-AFD6-F4B86AE4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5997-B53E-43EA-BF6A-53D427CF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80BFB-3E10-4FC8-9CD9-2C93782C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2AFE8-3CE7-484E-9505-6CFEDA23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A88C2-F0C7-40E9-9384-B72CE60A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B6D03-27B6-4545-B55A-07EC6D94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BC047-3678-4F67-8DA7-84850E42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763BB5-0273-4E61-98C8-FF0FE1AF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035C78-F78F-4381-8ADD-44A16BA5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9CFF4-E767-41D4-BE42-EDAF3538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BDDFE7-ADD3-4F4D-902B-542A78F5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F4FB2-3D96-41B3-A88A-128B1A1F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4882-384E-458B-B71A-03FC032B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17D09-B639-4F37-B619-BE5CF28B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52BE22-5450-40EE-8BAB-2614FB41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EDD57-8D5F-4C1B-9A75-494776EF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46596-A45C-4E27-89EA-D84EADC6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D0C62-DF9A-45F2-8977-6072CA1C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B6CB4-0D70-4770-9484-362A4CF6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C53C8-D757-4988-A0DF-9238B684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B14BF7-0EA8-4008-A1CE-9D671CF9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9F370E-F674-492A-A9BF-C1311633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8FC5D-7F40-4BAD-BF69-EA876C74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2A72-D5A3-41D9-B72E-C4E8C741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6C97A4-0F19-46B9-BC4E-5F3B95E1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4BB483-1A35-4A40-B423-78425612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74B741-E86C-4528-9E4E-10C22ACE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855E9-2F23-4C21-9421-CFE86EAB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308BE-6724-4078-BA0B-EC5784B0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5530F-4F34-4E30-8905-A78B6923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01860-713E-4B9C-99EF-59062376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623C80-343F-40BB-9686-291C997A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22C84-1E9C-4AFE-B94E-79E24DB3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67DB21-A038-4782-8ACC-0F65FB34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85E3-D434-4F76-A264-C3F62F20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FAF6DE-4015-4259-B708-6393F95A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34E92A-4FEE-46CE-9134-86A75A74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365253-0DF9-4028-92BC-74644F81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8A3978-87E7-47E6-AAA7-00F334B0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37BF4-9BDF-4E78-BFD1-BD2DB39C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E02A24-9137-49DF-A096-52982B8D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4077C9-535C-4676-80CA-E0B60C15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9E589-828E-4B8A-B285-4825721B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782189-9975-4795-8929-E2FB7262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F07986-BE67-4072-9367-45D5E9A5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42FC-C317-4AAF-A338-B67C9C30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9D4428-C92E-4CE1-BEEF-F9010155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A0EBD4-926F-4E34-B775-DD1B5040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FD51D2-6E96-4637-8833-0912734B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D2D33-78B1-43DD-9308-0D199B37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14E25A-6B56-465E-A0D3-5146A747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879A14-896E-485F-9FD0-081C952E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80358B-2690-45FA-AE5E-71C4ADEB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B9C82B-3314-44FE-A3C3-220A1A3C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9AE49D-D028-42E5-BE05-1B716E0E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CA71C5-23C8-46F4-85E0-CB803AA8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A708-4A6F-46DE-8349-3581C883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867211-960C-44FB-B904-F4F65408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615C3B-7D52-45A7-A7C5-8FAAE0C8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818CB6-0999-4EA6-8D82-D54F42F5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B947E5-DF6E-41C6-BA21-77F90135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3C40F8-0520-47BE-99B8-AEBAD757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AF95D1-1189-4E91-9D16-932125B7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DFB4E8-7550-446C-8EEF-CFC68BFE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DE8FD6-2F71-48F0-9F6A-EEA7E487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AB7465-F6F7-4CC2-88CA-73FF0F50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1561E9-A460-4637-B10F-B320ACB5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2B9E0-BAA7-47BB-983C-A6D5E2A7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0948-1C43-42F1-9875-067490D9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808838-46A5-49FB-8980-279FDC22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D34E8D-7599-4133-AD13-2987C2BA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633048-29B5-4B3C-B69C-ED54E850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5CDBD1-CDCC-405F-B798-CC1705BA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40EBF2-55A2-4878-BA17-73D39B16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7067BA-5E64-4790-AB55-4A8620D4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1944B2-7DED-49B0-8EB1-07863BED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0541D-4EE5-489A-AD53-D3888F75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B91E79-913E-4786-B2BC-EEAEFD57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752260-7C70-4006-8273-0946F68A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8C8C-8C3A-4C62-8AF4-9AE65FF9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2E3057-034D-402B-9251-5F5AB313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5DCC81-1B8C-415A-A16F-BD4F077E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02A732-1996-4E9C-AF6A-9A817E90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475F17-0230-4401-9B23-BEA7C553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C44EF9-E89A-4167-ABBB-D8692C5C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6DE469-44D1-4D1E-B9C4-163F4A9F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2A85E5-AA14-4D00-8320-C78997E9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266C-4E10-4302-9890-C529D32F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FB2F-2F70-4F93-BA6E-60085F66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68D5-E219-4837-BBD4-78E0201F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E84FC-9D8E-475F-813E-F034CA26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3BF71-7685-46D5-802D-C7967CAA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7E365-0137-44A7-BC7F-BD1AB8B1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8CB19-A110-46BF-9C77-25A8065A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2EB3D-FBCF-49DF-840A-DA1B5385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D9DA0-336E-479F-81EF-D99C3DC1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E6225-4665-45F3-A353-E440B9FF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5CA1E-55F2-4EDA-8348-892C4B16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3351C-BCCB-499B-B116-BF42869B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83185-B922-413A-8098-D91A5608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A379D-AF7D-469B-A502-0F5C819F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A86CE-380F-49F8-8F41-DDE78F1F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24098-5F4C-4479-AF0D-964F9DB8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0C8EE-8844-4D74-A750-FB529FD6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94DDF-8082-49F0-B651-06178044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B9E3E-7709-4BD4-B8E4-88E4C291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7E986-FCB3-4DE7-B13E-A533F43B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7D563-D69D-4A23-A300-23B28631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0DAB1-E817-4BAC-9747-8A46AB6A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6CBE1-6657-44BE-B3AF-CFE1B7EE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178BE-B1A4-44B9-B1C1-35134E44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D81A7-89C3-4777-A03F-876AC8AE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AFE9E-5E29-4083-88C6-699DE4F5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726F9-CF01-4990-BC59-97E92239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75153-FAB2-451C-97C4-F3BA695C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4213C-62F2-4AE6-A35B-32A89AD0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51EAF-042E-482F-A23A-99764B06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43D70-4645-49B9-B19F-5588BC24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82DEC-CE8E-4CB4-862F-0850ED66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7ADFF-6545-4B6B-A22E-C87AD5C5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BB6C6-73EA-42E4-8BAE-A49A5D9A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B7452-932B-4395-9DF7-F98E9021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0045D-7E83-49A8-AAD2-63F024A4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C10C1-5FB4-4E58-9E10-24ABD489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F2C3A-A57E-44C2-A39C-DB169679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8A5B5-D7B8-4CF7-AB77-27292A9D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860A2-A84A-4BB0-B5CD-68A31EE7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C2F8E-4FAF-41CF-995E-FA1A3457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30E47-8878-4CEE-970F-85A42362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B96FC-FCAF-47E3-867E-588CE19A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3E912-E54A-4159-AAA0-A89E1A10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6BE07-C5E7-4CE2-BE26-8E77B251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53430-E6C2-4136-94F2-DC44F17A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C0313-E67B-442B-8F31-4CF6C34B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19A17-F5B2-4EB2-82CF-D5CF6A0E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A9CD8-6C05-4904-8B41-A8FA3686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8164A-E332-48BF-A743-304C2578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84DA5-1926-43F2-ADB3-D0E81F6F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F01DA-3B85-4107-8AE9-28935700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3254-313C-4D52-B565-A2B029EC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10698-1F5E-448F-A0F2-898395DF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6D94B-E75D-4F03-BC4C-15F98F74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88EB0-BB80-4CC3-AB15-E2F9E84B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04A83-AF0C-4EDC-BA0D-F6DB9C58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D6C45-C6C6-482E-B8BF-E5AACE2B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43723-AA1F-44C1-A590-E36C6DF1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A84EF-6F7E-4379-AA27-BE89431B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680A9-EDE6-489D-A06D-6D2D4A73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69AF7-1F24-4F37-B0DB-746527BF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9046B-014A-4541-8590-06276758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F149F-7AB2-4180-A616-425DDEFA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C7788-22C4-4CA8-BCF6-6FF6AEE5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46191-7658-41C7-BCE2-F756FD51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C5539-0A4B-4AA9-BEA1-0945E531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96020-AA7B-4279-8EBA-8766211F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84E85-3D13-4550-A701-5B3E2E44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8D3D7-E16C-49FE-97F5-F4F63CBE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53D79-998B-42E9-8959-48E07EAB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C6592-B537-4F65-8A47-08F5D2BC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03645-7369-4B70-99DB-6F3139E6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F48A3-FDE2-4A67-914F-1C05CF41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B096D-0C46-4C52-B0E2-35F05394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46D82-A6B0-4249-860D-8ED314F4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9F96D-E89A-4364-823F-C17A6FBD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C027E-9084-40AD-92F5-1F859F93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88E82-6394-48EA-813F-96A55D24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27163-2FC0-4222-889C-25F7F7D2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902EF-6EE1-41B5-82A6-2EF9A70C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C50DC-E497-4730-88B6-2812BE85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BBB97-5D23-41AF-AAEC-283D27FF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E0CE7-808B-42D4-9431-54326B71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C862C-2E82-45D9-8229-F08D0977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62000" y="5716440"/>
            <a:ext cx="985680" cy="986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97080" y="5716440"/>
            <a:ext cx="985680" cy="987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433600" y="5716440"/>
            <a:ext cx="986040" cy="986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62000" y="4581360"/>
            <a:ext cx="985680" cy="986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 flipH="1">
            <a:off x="2124000" y="677880"/>
            <a:ext cx="70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5408640" y="106200"/>
            <a:ext cx="3686040" cy="1881360"/>
            <a:chOff x="5408640" y="106200"/>
            <a:chExt cx="3686040" cy="1881360"/>
          </a:xfrm>
        </p:grpSpPr>
        <p:sp>
          <p:nvSpPr>
            <p:cNvPr id="6" name="Freeform 8"/>
            <p:cNvSpPr/>
            <p:nvPr/>
          </p:nvSpPr>
          <p:spPr>
            <a:xfrm>
              <a:off x="5408640" y="672840"/>
              <a:ext cx="1789200" cy="89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461280" y="671400"/>
              <a:ext cx="2633400" cy="1316160"/>
            </a:xfrm>
            <a:prstGeom prst="pie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113520" y="280800"/>
              <a:ext cx="789120" cy="39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7356600" y="106200"/>
              <a:ext cx="1123920" cy="568440"/>
            </a:xfrm>
            <a:prstGeom prst="pie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12"/>
          <p:cNvSpPr/>
          <p:nvPr/>
        </p:nvSpPr>
        <p:spPr>
          <a:xfrm>
            <a:off x="0" y="620640"/>
            <a:ext cx="500364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1080"/>
            <a:ext cx="8215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5760" y="1596960"/>
            <a:ext cx="82152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9480" indent="-412920">
              <a:spcBef>
                <a:spcPts val="799"/>
              </a:spcBef>
              <a:buClr>
                <a:srgbClr val="f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776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6360" indent="-378000">
              <a:spcBef>
                <a:spcPts val="799"/>
              </a:spcBef>
              <a:buClr>
                <a:srgbClr val="f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3585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3585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3585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61880" y="6227280"/>
            <a:ext cx="2160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6635880" y="6227280"/>
            <a:ext cx="20174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97BE-176B-4AF4-A32A-19BC8B61CC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ftr" idx="3"/>
          </p:nvPr>
        </p:nvSpPr>
        <p:spPr>
          <a:xfrm>
            <a:off x="3161880" y="6227280"/>
            <a:ext cx="29336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04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17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4B41-F290-460A-AE0F-2C612105BE1C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73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86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3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6F18-760F-442B-95E5-D7CB0BAEC8EE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2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5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1E40-EFBD-40FB-8543-7210CD3A9F6E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39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A3CA-D97E-4023-9F94-65DE5D1C03B9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82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95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4931-49A6-4790-BD24-2CF33722E5F9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5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6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FE4D-18E2-4FCE-82A1-5FD54D35A92C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22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35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 type="sldNum" idx="48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8437-F447-46DF-ABDD-C5BB94D9A0EF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9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0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F105-EF71-431F-B5F9-54196CD5BDC7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6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7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D88F-D392-4DF5-9A7A-70D0AB5E0E9E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3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6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1449-C46C-49FE-BF01-962107B624C2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8"/>
          <p:cNvSpPr/>
          <p:nvPr/>
        </p:nvSpPr>
        <p:spPr>
          <a:xfrm>
            <a:off x="-31680" y="4321080"/>
            <a:ext cx="1395360" cy="78120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F319-6C4E-496E-8B82-B5A825DF36C7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9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0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551D-988E-40B8-97B4-1085061E0302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5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7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AEC3-F435-4CCA-BBB2-0041018849A4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28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41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9B60-F00E-4A74-92C4-B85125B6A7F6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97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10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282F-C710-4954-89A3-4CC5F046E1E0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66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79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4C31-4767-4CFC-A2B9-C93BDBBF1837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35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48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3927-48A4-46A6-BDE6-77FAC54A10FC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1"/>
          <p:cNvSpPr/>
          <p:nvPr/>
        </p:nvSpPr>
        <p:spPr>
          <a:xfrm>
            <a:off x="731880" y="1683000"/>
            <a:ext cx="760104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勤奋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专注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坚持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考研成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考研经历分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30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1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2" name="文本框 1"/>
          <p:cNvSpPr/>
          <p:nvPr/>
        </p:nvSpPr>
        <p:spPr>
          <a:xfrm>
            <a:off x="6227640" y="4316400"/>
            <a:ext cx="24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工艺本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王永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319" name="矩形 7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考研并没有那么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菱形 8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文本框 1"/>
          <p:cNvSpPr/>
          <p:nvPr/>
        </p:nvSpPr>
        <p:spPr>
          <a:xfrm>
            <a:off x="1187280" y="1484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：我的专业课期末都是飘过的，考研专业课那么难，肿么破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实学长的专业课曾经也是飘过的，那只是说明当时没有认真挺好课做好课后作业而已。当你复习了高数再去学自学专业课，你会发现原来专业课里面好多高数知识啊！这就是学以致用，慢慢的便都融会贯通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Box 3"/>
          <p:cNvSpPr/>
          <p:nvPr/>
        </p:nvSpPr>
        <p:spPr>
          <a:xfrm>
            <a:off x="1209600" y="278136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下面我谈下我的考研过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首先我没有报班，基础一般。其次我参加了第九届化工设计竞赛，也就是三井杯，从去年四月份一直做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月份，去昆明理工答完辩回校我记得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号，然后去成都同学家一趟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回校开始正式考研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你没听错，我只复习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个月的时间。中间还有专业实验和校外实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总结考研成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我想说：专注、勤奋、坚持！考研并没有那么难，相信自己！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ou   can  do   it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324" name="矩形 7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考研励志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菱形 8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6" name="文本框 1"/>
          <p:cNvSpPr/>
          <p:nvPr/>
        </p:nvSpPr>
        <p:spPr>
          <a:xfrm>
            <a:off x="1187280" y="13003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分享一些考研路上激励我的句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Box 1"/>
          <p:cNvSpPr/>
          <p:nvPr/>
        </p:nvSpPr>
        <p:spPr>
          <a:xfrm>
            <a:off x="1258920" y="1989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hing is impossible for a willing heart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之所愿，无所不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Box 10"/>
          <p:cNvSpPr/>
          <p:nvPr/>
        </p:nvSpPr>
        <p:spPr>
          <a:xfrm>
            <a:off x="1258920" y="262728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hung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foolish.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忘初心，方得始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Box 11"/>
          <p:cNvSpPr/>
          <p:nvPr/>
        </p:nvSpPr>
        <p:spPr>
          <a:xfrm>
            <a:off x="1258920" y="327492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arder you wor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ukier you will be.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越努力越幸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Box 12"/>
          <p:cNvSpPr/>
          <p:nvPr/>
        </p:nvSpPr>
        <p:spPr>
          <a:xfrm>
            <a:off x="1258920" y="392436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rther the heart is ,the farther the road is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有多远，路就有多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Box 13"/>
          <p:cNvSpPr/>
          <p:nvPr/>
        </p:nvSpPr>
        <p:spPr>
          <a:xfrm>
            <a:off x="1258920" y="457200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rther the heart is ,the farther the road is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有多远，路就有多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14"/>
          <p:cNvSpPr/>
          <p:nvPr/>
        </p:nvSpPr>
        <p:spPr>
          <a:xfrm>
            <a:off x="900000" y="529128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when you choi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atter wind and rain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既然选择了远方便只顾风雨兼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334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5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WordArt 2"/>
          <p:cNvSpPr txBox="1"/>
          <p:nvPr/>
        </p:nvSpPr>
        <p:spPr>
          <a:xfrm>
            <a:off x="2843280" y="2565360"/>
            <a:ext cx="3313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37" name="TextBox 2"/>
          <p:cNvSpPr/>
          <p:nvPr/>
        </p:nvSpPr>
        <p:spPr>
          <a:xfrm>
            <a:off x="2711880" y="1062000"/>
            <a:ext cx="274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联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19780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最后祝愿学弟学妹们考研顺利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8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339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0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3" name="组合 9"/>
          <p:cNvGrpSpPr/>
          <p:nvPr/>
        </p:nvGrpSpPr>
        <p:grpSpPr>
          <a:xfrm>
            <a:off x="1335240" y="1650960"/>
            <a:ext cx="4017960" cy="647640"/>
            <a:chOff x="1335240" y="1650960"/>
            <a:chExt cx="4017960" cy="647640"/>
          </a:xfrm>
        </p:grpSpPr>
        <p:sp>
          <p:nvSpPr>
            <p:cNvPr id="1234" name="矩形 6"/>
            <p:cNvSpPr/>
            <p:nvPr/>
          </p:nvSpPr>
          <p:spPr>
            <a:xfrm>
              <a:off x="1862280" y="17492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个人考研情况和考研须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菱形 5"/>
            <p:cNvSpPr/>
            <p:nvPr/>
          </p:nvSpPr>
          <p:spPr>
            <a:xfrm>
              <a:off x="1335240" y="165096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组合 22"/>
          <p:cNvGrpSpPr/>
          <p:nvPr/>
        </p:nvGrpSpPr>
        <p:grpSpPr>
          <a:xfrm>
            <a:off x="1862280" y="2395440"/>
            <a:ext cx="3921120" cy="647640"/>
            <a:chOff x="1862280" y="2395440"/>
            <a:chExt cx="3921120" cy="647640"/>
          </a:xfrm>
        </p:grpSpPr>
        <p:sp>
          <p:nvSpPr>
            <p:cNvPr id="1237" name="矩形 23"/>
            <p:cNvSpPr/>
            <p:nvPr/>
          </p:nvSpPr>
          <p:spPr>
            <a:xfrm>
              <a:off x="2292480" y="248256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b050"/>
                  </a:solidFill>
                  <a:latin typeface="Arial"/>
                </a:rPr>
                <a:t>考研的五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菱形 24"/>
            <p:cNvSpPr/>
            <p:nvPr/>
          </p:nvSpPr>
          <p:spPr>
            <a:xfrm>
              <a:off x="1862280" y="239544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组合 25"/>
          <p:cNvGrpSpPr/>
          <p:nvPr/>
        </p:nvGrpSpPr>
        <p:grpSpPr>
          <a:xfrm>
            <a:off x="2300400" y="3139920"/>
            <a:ext cx="3921120" cy="648000"/>
            <a:chOff x="2300400" y="3139920"/>
            <a:chExt cx="3921120" cy="648000"/>
          </a:xfrm>
        </p:grpSpPr>
        <p:sp>
          <p:nvSpPr>
            <p:cNvPr id="1240" name="矩形 26"/>
            <p:cNvSpPr/>
            <p:nvPr/>
          </p:nvSpPr>
          <p:spPr>
            <a:xfrm>
              <a:off x="2730600" y="3227040"/>
              <a:ext cx="3490920" cy="47340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我的建议和推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菱形 27"/>
            <p:cNvSpPr/>
            <p:nvPr/>
          </p:nvSpPr>
          <p:spPr>
            <a:xfrm>
              <a:off x="2300400" y="3139920"/>
              <a:ext cx="860400" cy="64800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2" name="圆角矩形 10"/>
          <p:cNvSpPr/>
          <p:nvPr/>
        </p:nvSpPr>
        <p:spPr>
          <a:xfrm>
            <a:off x="1392120" y="527040"/>
            <a:ext cx="1606680" cy="885960"/>
          </a:xfrm>
          <a:prstGeom prst="roundRect">
            <a:avLst>
              <a:gd name="adj" fmla="val 16667"/>
            </a:avLst>
          </a:prstGeom>
          <a:solidFill>
            <a:srgbClr val="e3e9db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要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矩形 11"/>
          <p:cNvSpPr/>
          <p:nvPr/>
        </p:nvSpPr>
        <p:spPr>
          <a:xfrm>
            <a:off x="3160800" y="3948120"/>
            <a:ext cx="3490920" cy="473040"/>
          </a:xfrm>
          <a:prstGeom prst="rect">
            <a:avLst/>
          </a:prstGeom>
          <a:solidFill>
            <a:srgbClr val="e3e9d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考研并没有那么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菱形 12"/>
          <p:cNvSpPr/>
          <p:nvPr/>
        </p:nvSpPr>
        <p:spPr>
          <a:xfrm>
            <a:off x="2730600" y="3860640"/>
            <a:ext cx="860400" cy="648000"/>
          </a:xfrm>
          <a:prstGeom prst="diamond">
            <a:avLst/>
          </a:prstGeom>
          <a:solidFill>
            <a:srgbClr val="e3e9d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矩形 13"/>
          <p:cNvSpPr/>
          <p:nvPr/>
        </p:nvSpPr>
        <p:spPr>
          <a:xfrm>
            <a:off x="3457440" y="4740120"/>
            <a:ext cx="3490920" cy="473400"/>
          </a:xfrm>
          <a:prstGeom prst="rect">
            <a:avLst/>
          </a:prstGeom>
          <a:solidFill>
            <a:srgbClr val="e3e9d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考研励志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菱形 14"/>
          <p:cNvSpPr/>
          <p:nvPr/>
        </p:nvSpPr>
        <p:spPr>
          <a:xfrm>
            <a:off x="3027240" y="4653000"/>
            <a:ext cx="860400" cy="647640"/>
          </a:xfrm>
          <a:prstGeom prst="diamond">
            <a:avLst/>
          </a:prstGeom>
          <a:solidFill>
            <a:srgbClr val="e3e9d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48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9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215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Text Box 6"/>
          <p:cNvSpPr/>
          <p:nvPr/>
        </p:nvSpPr>
        <p:spPr>
          <a:xfrm>
            <a:off x="706320" y="1628640"/>
            <a:ext cx="7848720" cy="38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b0f0"/>
                </a:solidFill>
                <a:latin typeface="宋体"/>
              </a:rPr>
              <a:t>个人考研基本信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录取院校：中国石油大学（华东） 化学工程学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录取专业：化学工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初试成绩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政治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6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英语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6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学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8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专业课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2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PS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：中石油（华东）初试专业课只能选物化，与许多学校不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初试专业排名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7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试排名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今年本专业复试分数线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90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试录取比例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3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复试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1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，录取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组合 9"/>
          <p:cNvGrpSpPr/>
          <p:nvPr/>
        </p:nvGrpSpPr>
        <p:grpSpPr>
          <a:xfrm>
            <a:off x="179280" y="54000"/>
            <a:ext cx="4017960" cy="647640"/>
            <a:chOff x="179280" y="54000"/>
            <a:chExt cx="4017960" cy="647640"/>
          </a:xfrm>
        </p:grpSpPr>
        <p:sp>
          <p:nvSpPr>
            <p:cNvPr id="1253" name="矩形 10"/>
            <p:cNvSpPr/>
            <p:nvPr/>
          </p:nvSpPr>
          <p:spPr>
            <a:xfrm>
              <a:off x="706320" y="15228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个人考研情况和考研须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菱形 11"/>
            <p:cNvSpPr/>
            <p:nvPr/>
          </p:nvSpPr>
          <p:spPr>
            <a:xfrm>
              <a:off x="179280" y="5400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56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7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8" name="图片 9" descr="QQ图片20151011115809.jpg"/>
          <p:cNvPicPr/>
          <p:nvPr/>
        </p:nvPicPr>
        <p:blipFill>
          <a:blip r:embed="rId2"/>
          <a:stretch/>
        </p:blipFill>
        <p:spPr>
          <a:xfrm>
            <a:off x="2928960" y="357120"/>
            <a:ext cx="1876320" cy="3038400"/>
          </a:xfrm>
          <a:prstGeom prst="rect">
            <a:avLst/>
          </a:prstGeom>
          <a:ln w="0">
            <a:noFill/>
          </a:ln>
        </p:spPr>
      </p:pic>
      <p:pic>
        <p:nvPicPr>
          <p:cNvPr id="1259" name="图片 12" descr="QQ图片20151011115756.jpg"/>
          <p:cNvPicPr/>
          <p:nvPr/>
        </p:nvPicPr>
        <p:blipFill>
          <a:blip r:embed="rId3"/>
          <a:stretch/>
        </p:blipFill>
        <p:spPr>
          <a:xfrm>
            <a:off x="6500880" y="357120"/>
            <a:ext cx="226692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215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1" name="Text Box 6"/>
          <p:cNvSpPr/>
          <p:nvPr/>
        </p:nvSpPr>
        <p:spPr>
          <a:xfrm>
            <a:off x="711360" y="1197000"/>
            <a:ext cx="78483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</a:rPr>
              <a:t>考研须知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b0f0"/>
                </a:solidFill>
                <a:latin typeface="方正舒体"/>
                <a:ea typeface="方正舒体"/>
              </a:rPr>
              <a:t>为什么考研？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方正舒体"/>
                <a:ea typeface="方正舒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你对这个专业真的感兴趣吗？</a:t>
            </a:r>
            <a:r>
              <a:rPr b="0" lang="zh-CN" sz="3000" spc="-1" strike="noStrike">
                <a:solidFill>
                  <a:srgbClr val="002060"/>
                </a:solidFill>
                <a:latin typeface="华文行楷"/>
                <a:ea typeface="华文行楷"/>
              </a:rPr>
              <a:t>兴趣</a:t>
            </a:r>
            <a:r>
              <a:rPr b="0" lang="zh-CN" sz="2000" spc="-1" strike="noStrike">
                <a:solidFill>
                  <a:srgbClr val="002060"/>
                </a:solidFill>
                <a:latin typeface="仿宋"/>
                <a:ea typeface="仿宋"/>
              </a:rPr>
              <a:t>是最好的老师。兴趣会不会给你带来学习的动力，只有有过这种感觉的人才会明白。我相信大家都曾有过对于一些事物因为感兴趣而去学习的感觉，只是时间长短而已。考研需要兴趣，也更需要</a:t>
            </a:r>
            <a:r>
              <a:rPr b="0" lang="zh-CN" sz="2000" spc="-1" strike="noStrike">
                <a:solidFill>
                  <a:srgbClr val="ff0000"/>
                </a:solidFill>
                <a:latin typeface="仿宋"/>
                <a:ea typeface="仿宋"/>
              </a:rPr>
              <a:t>勤奋</a:t>
            </a:r>
            <a:r>
              <a:rPr b="0" lang="zh-CN" sz="2000" spc="-1" strike="noStrike">
                <a:solidFill>
                  <a:srgbClr val="002060"/>
                </a:solidFill>
                <a:latin typeface="仿宋"/>
                <a:ea typeface="仿宋"/>
              </a:rPr>
              <a:t>和</a:t>
            </a:r>
            <a:r>
              <a:rPr b="0" lang="zh-CN" sz="2000" spc="-1" strike="noStrike">
                <a:solidFill>
                  <a:srgbClr val="ff0000"/>
                </a:solidFill>
                <a:latin typeface="仿宋"/>
                <a:ea typeface="仿宋"/>
              </a:rPr>
              <a:t>专注</a:t>
            </a:r>
            <a:r>
              <a:rPr b="0" lang="zh-CN" sz="2000" spc="-1" strike="noStrike">
                <a:solidFill>
                  <a:srgbClr val="002060"/>
                </a:solidFill>
                <a:latin typeface="仿宋"/>
                <a:ea typeface="仿宋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仿宋"/>
                <a:ea typeface="仿宋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考研是最适合我的选择吗？</a:t>
            </a:r>
            <a:r>
              <a:rPr b="0" lang="zh-CN" sz="2000" spc="-1" strike="noStrike">
                <a:solidFill>
                  <a:srgbClr val="7030a0"/>
                </a:solidFill>
                <a:latin typeface="仿宋"/>
                <a:ea typeface="仿宋"/>
              </a:rPr>
              <a:t>我认为考研并不是唯一的选择，也不一定是最好的选择。关键是你想要什么，你要选择什么样的道路？不论你选择什么，这是你的选择，要对自己的选择负责，你现在的选择将决定你今后的生活。如果你选择了考研，就一定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坚持下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仿宋"/>
                <a:ea typeface="仿宋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2" name="组合 9"/>
          <p:cNvGrpSpPr/>
          <p:nvPr/>
        </p:nvGrpSpPr>
        <p:grpSpPr>
          <a:xfrm>
            <a:off x="179280" y="54000"/>
            <a:ext cx="4017960" cy="647640"/>
            <a:chOff x="179280" y="54000"/>
            <a:chExt cx="4017960" cy="647640"/>
          </a:xfrm>
        </p:grpSpPr>
        <p:sp>
          <p:nvSpPr>
            <p:cNvPr id="1263" name="矩形 10"/>
            <p:cNvSpPr/>
            <p:nvPr/>
          </p:nvSpPr>
          <p:spPr>
            <a:xfrm>
              <a:off x="706320" y="15228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个人考研情况和考研须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菱形 11"/>
            <p:cNvSpPr/>
            <p:nvPr/>
          </p:nvSpPr>
          <p:spPr>
            <a:xfrm>
              <a:off x="179280" y="5400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66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7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215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9" name="Text Box 6"/>
          <p:cNvSpPr/>
          <p:nvPr/>
        </p:nvSpPr>
        <p:spPr>
          <a:xfrm>
            <a:off x="711360" y="1197000"/>
            <a:ext cx="784836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</a:rPr>
              <a:t>考研须知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方正舒体"/>
                <a:ea typeface="方正舒体"/>
              </a:rPr>
              <a:t>如何选择报考学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可以说考研院校的选择至关重要，由于不了解考研中的诸多因素，导致报考学校时的跟风、盲目、举棋不定都是对考研不利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建议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考研初期可以根据自己的兴趣爱好、自我学习能力评估、本科课程的掌握程度，给自己进行合理定位，初步确定几所不同层次高校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考虑所报高校初试专业课，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分清学术型和专业型硕士的区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每年考研网上正式报名时间在十月份。去年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至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也就是到了考研后期，这是对于自己的复习情况基本有所了解，确定好所报高校后，最好不要随意再进行更改，避免因所报高校专业不同而浪费精力。此时要相信自己，将精力放在复习冲刺上。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组合 9"/>
          <p:cNvGrpSpPr/>
          <p:nvPr/>
        </p:nvGrpSpPr>
        <p:grpSpPr>
          <a:xfrm>
            <a:off x="179280" y="54000"/>
            <a:ext cx="4017960" cy="647640"/>
            <a:chOff x="179280" y="54000"/>
            <a:chExt cx="4017960" cy="647640"/>
          </a:xfrm>
        </p:grpSpPr>
        <p:sp>
          <p:nvSpPr>
            <p:cNvPr id="1271" name="矩形 10"/>
            <p:cNvSpPr/>
            <p:nvPr/>
          </p:nvSpPr>
          <p:spPr>
            <a:xfrm>
              <a:off x="706320" y="15228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个人考研情况和考研须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菱形 11"/>
            <p:cNvSpPr/>
            <p:nvPr/>
          </p:nvSpPr>
          <p:spPr>
            <a:xfrm>
              <a:off x="179280" y="5400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74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5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6"/>
          <p:cNvSpPr/>
          <p:nvPr/>
        </p:nvSpPr>
        <p:spPr>
          <a:xfrm>
            <a:off x="0" y="6440400"/>
            <a:ext cx="9144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6f54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组合 22"/>
          <p:cNvGrpSpPr/>
          <p:nvPr/>
        </p:nvGrpSpPr>
        <p:grpSpPr>
          <a:xfrm>
            <a:off x="179280" y="0"/>
            <a:ext cx="3961080" cy="647640"/>
            <a:chOff x="179280" y="0"/>
            <a:chExt cx="3961080" cy="647640"/>
          </a:xfrm>
        </p:grpSpPr>
        <p:sp>
          <p:nvSpPr>
            <p:cNvPr id="1278" name="矩形 11"/>
            <p:cNvSpPr/>
            <p:nvPr/>
          </p:nvSpPr>
          <p:spPr>
            <a:xfrm>
              <a:off x="649080" y="87120"/>
              <a:ext cx="349128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b05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b050"/>
                  </a:solidFill>
                  <a:latin typeface="Arial"/>
                </a:rPr>
                <a:t>考研五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菱形 12"/>
            <p:cNvSpPr/>
            <p:nvPr/>
          </p:nvSpPr>
          <p:spPr>
            <a:xfrm>
              <a:off x="179280" y="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文本框 2"/>
          <p:cNvSpPr/>
          <p:nvPr/>
        </p:nvSpPr>
        <p:spPr>
          <a:xfrm>
            <a:off x="1039680" y="1341360"/>
            <a:ext cx="77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考研是对整个大学学习的一次总结，让你对自己所学专业进行一次系统的复习。本科生到研究生，就是量变到质变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文本框 2"/>
          <p:cNvSpPr/>
          <p:nvPr/>
        </p:nvSpPr>
        <p:spPr>
          <a:xfrm>
            <a:off x="1042920" y="3645000"/>
            <a:ext cx="773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学历的提升，当下，虽然公司企业强调个人能力，但越来越多的情况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历要求成为了一道门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文本框 2"/>
          <p:cNvSpPr/>
          <p:nvPr/>
        </p:nvSpPr>
        <p:spPr>
          <a:xfrm>
            <a:off x="1042920" y="5229360"/>
            <a:ext cx="77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考研就像一场战斗，一旦你坚持到最后，你会发现，不管是你的知识储备、性格品质都会得到很大提升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文本框 2"/>
          <p:cNvSpPr/>
          <p:nvPr/>
        </p:nvSpPr>
        <p:spPr>
          <a:xfrm>
            <a:off x="1042920" y="4437000"/>
            <a:ext cx="77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交际圈扩大，每个人的发展都不是单一的发展，离不开群体。不可否认，你未来的发展与自己的朋友圈有着密切的联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文本框 2"/>
          <p:cNvSpPr/>
          <p:nvPr/>
        </p:nvSpPr>
        <p:spPr>
          <a:xfrm>
            <a:off x="1042920" y="2060640"/>
            <a:ext cx="77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对于我们工艺这个专业，就我了解到同学的就业情况，才刚毕业就有些同学从事了其他行业。原因何在，是因为我们本科阶段学的范围太宽，好像就业面很广，其实不然。如果你喜欢本专业，你不想从事本专业工作么？。当我们读研后，将会有自己的研究方向，以后工作便更有针对性，从事本专业的机会将会大大增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86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7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 Box 3"/>
          <p:cNvSpPr/>
          <p:nvPr/>
        </p:nvSpPr>
        <p:spPr>
          <a:xfrm>
            <a:off x="104292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290" name="矩形 9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我的建议和推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菱形 10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文本框 1"/>
          <p:cNvSpPr/>
          <p:nvPr/>
        </p:nvSpPr>
        <p:spPr>
          <a:xfrm>
            <a:off x="985680" y="1763640"/>
            <a:ext cx="73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准备不在于早，而在于是否真正用心准备，是否真正全身心投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流程图: 终止 12"/>
          <p:cNvSpPr/>
          <p:nvPr/>
        </p:nvSpPr>
        <p:spPr>
          <a:xfrm>
            <a:off x="1403280" y="727200"/>
            <a:ext cx="5256360" cy="503280"/>
          </a:xfrm>
          <a:prstGeom prst="flowChartTerminator">
            <a:avLst/>
          </a:prstGeom>
          <a:solidFill>
            <a:srgbClr val="e3e9db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我的四点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文本框 1"/>
          <p:cNvSpPr/>
          <p:nvPr/>
        </p:nvSpPr>
        <p:spPr>
          <a:xfrm>
            <a:off x="1042920" y="2556000"/>
            <a:ext cx="73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定要制定一个适合自己的复习计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文本框 1"/>
          <p:cNvSpPr/>
          <p:nvPr/>
        </p:nvSpPr>
        <p:spPr>
          <a:xfrm>
            <a:off x="1042920" y="3274920"/>
            <a:ext cx="73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身体是革命的本钱，懂得劳逸结合。保证好自己的睡眠时间，最好每周有两到三次的身体锻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1"/>
          <p:cNvSpPr/>
          <p:nvPr/>
        </p:nvSpPr>
        <p:spPr>
          <a:xfrm>
            <a:off x="1042920" y="4282920"/>
            <a:ext cx="73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态，从始至终保持平稳的心态至关重要，心浮气躁乃学习大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7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298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9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Text Box 3"/>
          <p:cNvSpPr/>
          <p:nvPr/>
        </p:nvSpPr>
        <p:spPr>
          <a:xfrm>
            <a:off x="104292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302" name="矩形 9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70c0"/>
                  </a:solidFill>
                  <a:latin typeface="Arial"/>
                </a:rPr>
                <a:t>我的建议和推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菱形 10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文本框 1"/>
          <p:cNvSpPr/>
          <p:nvPr/>
        </p:nvSpPr>
        <p:spPr>
          <a:xfrm>
            <a:off x="1100160" y="1314360"/>
            <a:ext cx="732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学：我们专业都是考数二（线代加高数），当然不管数几，数学终究是重中之重。每年都有因为总分上线，而卡到数学 的同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推荐书籍：以同济版教材为纲，前期汤家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张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题配合李永乐线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后期回归历年真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语：长期积累的过程，每天花点时间记点单词、读点文章，保持对英语学习的感觉很重要。建议在暑假开始做真题，把真题吃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推荐书籍：考研单词一本  作文一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政治：不建议复习太早，暑假结束后正式复习不晚，以红宝书为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推荐书籍：肖秀荣考研政治系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业课：建议从暑假开始，课本至少复习两遍，把课后题做两边。然后买报考学校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的初试题，越详细的越好，把它做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上是我针对未报班的同学，对于报班的同学，我想说既然报了班，就跟着班走，轻松些，书籍的话考研班会发很多，没必要再买太多。书不再多，而是要把自己手里的资料吃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流程图: 终止 12"/>
          <p:cNvSpPr/>
          <p:nvPr/>
        </p:nvSpPr>
        <p:spPr>
          <a:xfrm>
            <a:off x="1403280" y="727200"/>
            <a:ext cx="5256360" cy="503280"/>
          </a:xfrm>
          <a:prstGeom prst="flowChartTerminator">
            <a:avLst/>
          </a:prstGeom>
          <a:solidFill>
            <a:srgbClr val="e3e9db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复习方案和推荐书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307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8" name="图片 5" descr=""/>
            <p:cNvPicPr/>
            <p:nvPr/>
          </p:nvPicPr>
          <p:blipFill>
            <a:blip r:embed="rId1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9" name="组合 25"/>
          <p:cNvGrpSpPr/>
          <p:nvPr/>
        </p:nvGrpSpPr>
        <p:grpSpPr>
          <a:xfrm>
            <a:off x="179280" y="22320"/>
            <a:ext cx="3921120" cy="647640"/>
            <a:chOff x="179280" y="22320"/>
            <a:chExt cx="3921120" cy="647640"/>
          </a:xfrm>
        </p:grpSpPr>
        <p:sp>
          <p:nvSpPr>
            <p:cNvPr id="1310" name="矩形 7"/>
            <p:cNvSpPr/>
            <p:nvPr/>
          </p:nvSpPr>
          <p:spPr>
            <a:xfrm>
              <a:off x="609480" y="109440"/>
              <a:ext cx="3490920" cy="473040"/>
            </a:xfrm>
            <a:prstGeom prst="rect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7030a0"/>
                  </a:solidFill>
                  <a:latin typeface="Arial"/>
                </a:rPr>
                <a:t>考研并没有那么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菱形 8"/>
            <p:cNvSpPr/>
            <p:nvPr/>
          </p:nvSpPr>
          <p:spPr>
            <a:xfrm>
              <a:off x="179280" y="22320"/>
              <a:ext cx="860400" cy="647640"/>
            </a:xfrm>
            <a:prstGeom prst="diamond">
              <a:avLst/>
            </a:prstGeom>
            <a:solidFill>
              <a:srgbClr val="e3e9d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文本框 1"/>
          <p:cNvSpPr/>
          <p:nvPr/>
        </p:nvSpPr>
        <p:spPr>
          <a:xfrm>
            <a:off x="1187280" y="148428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你们当中，我想可能会有同学有这样的想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：我现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都没过，英语这么差，怎么考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其实考研英语和四六级并无多大关系，考研英语没有听力，我想许多同学之所以没有过四六级，就是败在英语听力上。说实话，我英语也不好，正是因为考研复习英语才过了四级，听力成绩依然很低。考研的路上，是不是还有意想不到的收获，我的几位同学也正是考研复习才通过了英语六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图片 1" descr=""/>
          <p:cNvPicPr/>
          <p:nvPr/>
        </p:nvPicPr>
        <p:blipFill>
          <a:blip r:embed="rId1"/>
          <a:stretch/>
        </p:blipFill>
        <p:spPr>
          <a:xfrm>
            <a:off x="4476600" y="176040"/>
            <a:ext cx="4667400" cy="3343320"/>
          </a:xfrm>
          <a:prstGeom prst="rect">
            <a:avLst/>
          </a:prstGeom>
          <a:ln w="0">
            <a:noFill/>
          </a:ln>
        </p:spPr>
      </p:pic>
      <p:sp>
        <p:nvSpPr>
          <p:cNvPr id="1314" name="TextBox 3"/>
          <p:cNvSpPr/>
          <p:nvPr/>
        </p:nvSpPr>
        <p:spPr>
          <a:xfrm>
            <a:off x="1187280" y="3860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：我曾挂在高数上，高数那么难，怎么办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所以觉得难，是因为我们之前没有去认真听好老师的讲课，一旦落下几章，后面便像听天书一样。高数是一门连贯性很强的课程，当我们自学的时候，你会发现，学好上一章，下一章的内容似乎就是让一章节的延伸，慢慢的就找到了学习的乐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组合 1"/>
          <p:cNvGrpSpPr/>
          <p:nvPr/>
        </p:nvGrpSpPr>
        <p:grpSpPr>
          <a:xfrm>
            <a:off x="-216000" y="5167440"/>
            <a:ext cx="3637080" cy="3166920"/>
            <a:chOff x="-216000" y="5167440"/>
            <a:chExt cx="3637080" cy="3166920"/>
          </a:xfrm>
        </p:grpSpPr>
        <p:sp>
          <p:nvSpPr>
            <p:cNvPr id="1316" name="Rectangle 4"/>
            <p:cNvSpPr/>
            <p:nvPr/>
          </p:nvSpPr>
          <p:spPr>
            <a:xfrm>
              <a:off x="1259640" y="6237360"/>
              <a:ext cx="21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四川理工学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7" name="图片 5" descr=""/>
            <p:cNvPicPr/>
            <p:nvPr/>
          </p:nvPicPr>
          <p:blipFill>
            <a:blip r:embed="rId2"/>
            <a:stretch/>
          </p:blipFill>
          <p:spPr>
            <a:xfrm>
              <a:off x="-216000" y="5167440"/>
              <a:ext cx="23752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30T13:55:32Z</dcterms:created>
  <dc:creator>微软用户</dc:creator>
  <dc:description/>
  <cp:keywords/>
  <dc:language>en-US</dc:language>
  <cp:lastModifiedBy>kk</cp:lastModifiedBy>
  <dcterms:modified xsi:type="dcterms:W3CDTF">2016-04-27T09:13:26Z</dcterms:modified>
  <cp:revision>1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