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jpeg" ContentType="image/jpeg"/>
  <Override PartName="/ppt/media/image6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710EA7-6AEF-414E-8D47-977A60F49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242C78-D322-426B-AD11-E077249CB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705486-1C10-4F8A-AB95-B7F1A36CE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8968C3-6254-4F2F-B413-F17560792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6C49A1-6262-4D62-9DC7-D8A53F93C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1D1028-BEC5-4486-B980-4DE625B72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5929E8-BC1C-45BA-9BB2-3B745E847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FBAC87-79CF-4A08-A1BA-9F4395352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D3AD47-1E53-4E36-8936-F7C451D96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96D57B-5540-41F6-AA38-D384DA34F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AEE5FA-5BF7-4FC4-B802-7A350BC84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DE540A-52BF-433C-9246-1C9F45C77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7AD907-028F-498C-8CEC-15BAB13FD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D3C295-89C7-415B-B69F-676BCD65B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431EFF-0B6D-429C-B7BC-F662C78DA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E930FD-C2FE-4ED8-90EA-88ADB2ED3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348942-8BA2-4FE3-9FB8-885CBF002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F2AA46-442E-416B-B214-D3210168A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4BDA12-3D5E-4042-9097-33A60881F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EA811E-18D2-44E8-B11C-9E2494A36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C841CC-361D-4BC8-A971-7A615EA71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577DA5-6AB7-45C7-A77D-3F96E3EB3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0D8156-EFA2-4019-BCDA-178F47767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0ACEAC-DA59-4120-AB35-907DC03E2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60295B-42B0-48B5-968B-9A4A52B62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C8079F-2C2A-4A2A-A4ED-E74B390C6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BDEE35-9D5E-4771-9960-C5AA947C0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AAB3FF-1FCE-49BD-B7A7-3FE987320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FB8AEA-C0AB-4BA8-B563-FB5899B9A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6D8F44-EA76-45BD-8310-2C2DAE371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B8112-592B-41CB-AC7E-5A747DB4B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2CE078-7637-4F70-A4C5-CCC93F33D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FB4AED-41D3-48E3-9D1B-AF3F10637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5BF13A-5670-47BC-A550-84663D207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E69ACD-E323-4894-B18F-48A9A0C66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00FC03-B95F-42BB-B6C3-C5C5926A5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B94054-123F-4EAF-8131-E3FF5EC9D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A6A4E2-5D6D-4FEC-A972-D0C16A40C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52A1FD-66E1-4C80-9A6D-0DF9A9421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C0E11F-9216-4A7B-A2B3-C4D91B040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3AE947-3E14-4E41-B095-89CAB99A2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7BE1E-818C-4999-A054-B134840F5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79EA3F-F021-4C9D-B0C9-5ACB609CF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4FD719-0203-405E-BFB6-99C730B90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1DF10D-56C9-4CB7-B433-1EE15DF7B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C55844-AC40-4C91-A757-517F4DAF4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5B8FA8-DD7F-4025-AFA7-4FF850345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D4549-5F27-464A-B61A-6D0E2287E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FA504-2AB0-4B77-BD30-C048EB87D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775A3-9800-46DB-B99B-7BF7A6411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BE85C-0D59-448A-A349-87265C2AD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81C01-C52E-4C03-B62B-23C38BF2D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FB797-6ADD-4EF2-BD38-41F52A58B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81060-D5D4-427E-AD0E-117AB7E97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8C094-ED6D-4CD1-A82F-E187CABEE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6EDD3-D04D-42E6-B421-D20700A5E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9A614-1314-4AAE-9DCE-E98221DF7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687A1-602E-4E9E-9FEF-E5975943A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05970-FF7A-4EF8-B7DE-F9E1D3593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99BF8-2070-47C6-A48F-720AD3E3A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B701B-FA95-4403-83BF-904464DAD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5F310-31D5-4317-9261-404ED2970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58DCF-B36B-4CB0-A7B6-5C6DC3687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D854A-835F-4E9B-9B4D-DECFEAFD2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F6903-3FCB-47DD-98A9-01D48FE43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D7617-C633-466F-99BB-537526934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1E11C-0F2B-4B75-922E-C60FDDF43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F8627-670F-4548-BC0D-07C7523A2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E6D3E-F98E-47C7-8A2E-F4C3561D7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845778-54F6-468A-A22B-7B9B64C80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19EC4F-55D2-45E4-B228-FE80342A4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87BE35-9F39-49C3-A5BB-00A6A1E67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EA1483-B26B-46C9-875D-A294EDF05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48EDDC-0EEB-4F32-98C0-076F50BAF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EAA7CA-F621-47CD-9730-E2307A03F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3A3BA7-D8AD-4715-9739-CDCDA11AA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FDD393-8752-4449-830A-F9C81311D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36D356-73F5-4F7B-8A48-ECB9BBEC8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F67A5A-677D-4815-8CA0-4FF96057B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FA9E95-B21D-4F81-9116-073C18F02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D3A2C4-57F7-4BAA-961E-BFF76FD25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286992-423D-4873-89B0-68518B095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A3B3E7-DF4B-4625-9CAB-EF7CEBB9D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0027F5-52CD-4504-A413-B09D6A0F2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DBF901-0864-4124-B0D9-47B545B25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132C94-75DC-43E3-A7A1-FE49076F0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01A7FF-D0D5-42D7-ABCB-DA6891002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9FE3E1-0161-4430-9237-320618FAC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23ED77-D91E-40DC-8EDF-CE19C8354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555AAB-798B-4707-AE37-C4E569DED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AD8F80-8621-4DD9-B482-3AE48E3CD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003C69-939E-479C-96EF-99933B846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E54A7E-427E-4C1F-AF40-B46CE3052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274369-E53E-4934-BB71-AE6963EE5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1F5A7F-465F-40C9-839A-F1C7BB7F8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04D407-6BFE-45CA-8B1E-14101E9D2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31BD38-49E0-4FCC-9D2A-AD4B9232C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FDA464-7BC7-4A83-AADC-ADB6DAAFD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5BD325-4D5A-45DB-83A1-A182B4F58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DE5F74-F33F-4F8A-BFAB-E374734FE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C226F0-9310-4DB9-9002-2EA397E1C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C2C7B6-4BE9-4C44-99D0-2AEF4995C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F4AC4B-BF3A-4D0A-A60D-614AE082C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257887-9F51-4C1C-8FA0-3822313A0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78889E-E561-4C51-8AEF-4DC838C78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5DD203-891A-4B36-A50F-EE3B0828D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9C23EC-1602-4AE8-AC33-3E1F2F6A9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3D425D-3133-4EDA-B080-F661C909F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FC64F3-8CD1-4726-992D-711DC1081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330F02-9E8C-4A10-AD1C-0850F7E7D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D10727-8340-4F85-A690-5B44AD4E4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C0F727-E5A8-4907-A9C0-8486E55F9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A5E3F7-A436-43E7-BB59-51A0FBB14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CBAA33-67A8-45D8-A629-1DB59A7C4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2E87B4-D5D4-4A0B-B5F3-8F64A6146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4FC1F1-8DE8-44A3-9939-6AF57FFAE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F79819-104C-49F3-9211-EC4DB5E3C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12F2CA-A620-4D40-AA5B-BF797CA33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7BFBE4-8900-495F-81CA-D3D0B0E5E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F2A184-A058-410E-A81B-D688AF572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AF8162-2C15-47D8-93FD-569E0E24C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E566CC-9AD8-44AE-8798-849C34FDB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AF47FB-BFA0-4949-BB01-DD8B0D0C3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FBD4E6-5415-4806-8E76-363FB1659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7C9691-9137-4F70-8D93-2AB5BBE8D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4A2F58-8F43-4DBA-AE61-142A004E3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5AE394-6549-4E00-91E3-45876AFB6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D50849-CB34-4E7A-8E79-8946DA457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BE0A3E-34C2-4B05-AEDB-CBC5F378E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EEFBEC-BC1B-4B63-A262-83195926E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0B4A65-7C41-46A7-9A1D-7D6F4D191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735619-2B4F-45FA-8B42-29A8412EC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6" descr=""/>
          <p:cNvPicPr/>
          <p:nvPr/>
        </p:nvPicPr>
        <p:blipFill>
          <a:blip r:embed="rId2"/>
          <a:stretch/>
        </p:blipFill>
        <p:spPr>
          <a:xfrm>
            <a:off x="0" y="47520"/>
            <a:ext cx="9144000" cy="6762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图片 6" descr=""/>
          <p:cNvPicPr/>
          <p:nvPr/>
        </p:nvPicPr>
        <p:blipFill>
          <a:blip r:embed="rId2"/>
          <a:stretch/>
        </p:blipFill>
        <p:spPr>
          <a:xfrm>
            <a:off x="0" y="47520"/>
            <a:ext cx="9144000" cy="6762960"/>
          </a:xfrm>
          <a:prstGeom prst="rect">
            <a:avLst/>
          </a:prstGeom>
          <a:ln w="0">
            <a:noFill/>
          </a:ln>
        </p:spPr>
      </p:pic>
      <p:sp>
        <p:nvSpPr>
          <p:cNvPr id="360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84B21-8BA9-4BF9-BED1-8897F241BE57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图片 6" descr=""/>
          <p:cNvPicPr/>
          <p:nvPr/>
        </p:nvPicPr>
        <p:blipFill>
          <a:blip r:embed="rId2"/>
          <a:stretch/>
        </p:blipFill>
        <p:spPr>
          <a:xfrm>
            <a:off x="0" y="47520"/>
            <a:ext cx="9144000" cy="676296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2208D-B324-445B-A7B3-F0FF07441A81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图片 6" descr=""/>
          <p:cNvPicPr/>
          <p:nvPr/>
        </p:nvPicPr>
        <p:blipFill>
          <a:blip r:embed="rId2"/>
          <a:stretch/>
        </p:blipFill>
        <p:spPr>
          <a:xfrm>
            <a:off x="0" y="47520"/>
            <a:ext cx="9144000" cy="6762960"/>
          </a:xfrm>
          <a:prstGeom prst="rect">
            <a:avLst/>
          </a:prstGeom>
          <a:ln w="0">
            <a:noFill/>
          </a:ln>
        </p:spPr>
      </p:pic>
      <p:sp>
        <p:nvSpPr>
          <p:cNvPr id="440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F51CD-8514-4757-990E-6C6219526BCF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图片 6" descr=""/>
          <p:cNvPicPr/>
          <p:nvPr/>
        </p:nvPicPr>
        <p:blipFill>
          <a:blip r:embed="rId2"/>
          <a:stretch/>
        </p:blipFill>
        <p:spPr>
          <a:xfrm>
            <a:off x="0" y="47520"/>
            <a:ext cx="9144000" cy="676296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CD4A0-D6DD-4E1F-B4FB-21F0CF7B3C6B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图片 6" descr=""/>
          <p:cNvPicPr/>
          <p:nvPr/>
        </p:nvPicPr>
        <p:blipFill>
          <a:blip r:embed="rId2"/>
          <a:stretch/>
        </p:blipFill>
        <p:spPr>
          <a:xfrm>
            <a:off x="0" y="47520"/>
            <a:ext cx="9144000" cy="676296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4B19D-5596-4CEB-AACC-88D15EB02C43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图片 6" descr=""/>
          <p:cNvPicPr/>
          <p:nvPr/>
        </p:nvPicPr>
        <p:blipFill>
          <a:blip r:embed="rId2"/>
          <a:stretch/>
        </p:blipFill>
        <p:spPr>
          <a:xfrm>
            <a:off x="0" y="47520"/>
            <a:ext cx="9144000" cy="676296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84D59-417E-42AF-9803-FE15D1946FA7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图片 6" descr=""/>
          <p:cNvPicPr/>
          <p:nvPr/>
        </p:nvPicPr>
        <p:blipFill>
          <a:blip r:embed="rId2"/>
          <a:stretch/>
        </p:blipFill>
        <p:spPr>
          <a:xfrm>
            <a:off x="0" y="47520"/>
            <a:ext cx="9144000" cy="676296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8E18D-D127-4886-936E-EF989F127320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图片 6" descr=""/>
          <p:cNvPicPr/>
          <p:nvPr/>
        </p:nvPicPr>
        <p:blipFill>
          <a:blip r:embed="rId2"/>
          <a:stretch/>
        </p:blipFill>
        <p:spPr>
          <a:xfrm>
            <a:off x="0" y="47520"/>
            <a:ext cx="9144000" cy="676296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55896-6713-4735-9D1B-2110B443486A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图片 6" descr=""/>
          <p:cNvPicPr/>
          <p:nvPr/>
        </p:nvPicPr>
        <p:blipFill>
          <a:blip r:embed="rId2"/>
          <a:stretch/>
        </p:blipFill>
        <p:spPr>
          <a:xfrm>
            <a:off x="0" y="47520"/>
            <a:ext cx="9144000" cy="6762960"/>
          </a:xfrm>
          <a:prstGeom prst="rect">
            <a:avLst/>
          </a:prstGeom>
          <a:ln w="0">
            <a:noFill/>
          </a:ln>
        </p:spPr>
      </p:pic>
      <p:sp>
        <p:nvSpPr>
          <p:cNvPr id="240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B07C7-9513-46F0-9FD8-74CDE16BD2D1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图片 6" descr=""/>
          <p:cNvPicPr/>
          <p:nvPr/>
        </p:nvPicPr>
        <p:blipFill>
          <a:blip r:embed="rId2"/>
          <a:stretch/>
        </p:blipFill>
        <p:spPr>
          <a:xfrm>
            <a:off x="0" y="47520"/>
            <a:ext cx="9144000" cy="6762960"/>
          </a:xfrm>
          <a:prstGeom prst="rect">
            <a:avLst/>
          </a:prstGeom>
          <a:ln w="0">
            <a:noFill/>
          </a:ln>
        </p:spPr>
      </p:pic>
      <p:sp>
        <p:nvSpPr>
          <p:cNvPr id="280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F5243-58BB-446F-83D4-562453355C1A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图片 6" descr=""/>
          <p:cNvPicPr/>
          <p:nvPr/>
        </p:nvPicPr>
        <p:blipFill>
          <a:blip r:embed="rId2"/>
          <a:stretch/>
        </p:blipFill>
        <p:spPr>
          <a:xfrm>
            <a:off x="0" y="47520"/>
            <a:ext cx="9144000" cy="6762960"/>
          </a:xfrm>
          <a:prstGeom prst="rect">
            <a:avLst/>
          </a:prstGeom>
          <a:ln w="0">
            <a:noFill/>
          </a:ln>
        </p:spPr>
      </p:pic>
      <p:sp>
        <p:nvSpPr>
          <p:cNvPr id="320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A1029-C071-4612-B953-902EEED3D6E0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321,4,&#24187;&#28783;&#29255; 4" TargetMode="External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9" name="组合 1"/>
          <p:cNvGrpSpPr/>
          <p:nvPr/>
        </p:nvGrpSpPr>
        <p:grpSpPr>
          <a:xfrm>
            <a:off x="-22320" y="981000"/>
            <a:ext cx="9144000" cy="1467000"/>
            <a:chOff x="-22320" y="981000"/>
            <a:chExt cx="9144000" cy="1467000"/>
          </a:xfrm>
        </p:grpSpPr>
        <p:sp>
          <p:nvSpPr>
            <p:cNvPr id="480" name="圆角矩形 2"/>
            <p:cNvSpPr/>
            <p:nvPr/>
          </p:nvSpPr>
          <p:spPr>
            <a:xfrm>
              <a:off x="-22320" y="981000"/>
              <a:ext cx="9144000" cy="1467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4bd97"/>
                </a:gs>
                <a:gs pos="50000">
                  <a:srgbClr val="ffffff"/>
                </a:gs>
                <a:gs pos="100000">
                  <a:srgbClr val="c4bd9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1" name="矩形 4"/>
            <p:cNvSpPr/>
            <p:nvPr/>
          </p:nvSpPr>
          <p:spPr>
            <a:xfrm>
              <a:off x="179280" y="1180440"/>
              <a:ext cx="89107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800" spc="-1" strike="noStrike">
                  <a:solidFill>
                    <a:srgbClr val="0070c0"/>
                  </a:solidFill>
                  <a:latin typeface="华文行楷"/>
                  <a:ea typeface="华文行楷"/>
                </a:rPr>
                <a:t>考研经验交流会</a:t>
              </a:r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82" name="直接连接符 4"/>
          <p:cNvSpPr/>
          <p:nvPr/>
        </p:nvSpPr>
        <p:spPr>
          <a:xfrm flipV="1">
            <a:off x="-19080" y="620280"/>
            <a:ext cx="9144000" cy="71640"/>
          </a:xfrm>
          <a:prstGeom prst="line">
            <a:avLst/>
          </a:prstGeom>
          <a:ln w="38160">
            <a:solidFill>
              <a:srgbClr val="00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直接连接符 5"/>
          <p:cNvSpPr/>
          <p:nvPr/>
        </p:nvSpPr>
        <p:spPr>
          <a:xfrm flipV="1">
            <a:off x="-54000" y="2838600"/>
            <a:ext cx="9144000" cy="71280"/>
          </a:xfrm>
          <a:prstGeom prst="line">
            <a:avLst/>
          </a:prstGeom>
          <a:ln w="38160">
            <a:solidFill>
              <a:srgbClr val="00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4" name="图片 7" descr=""/>
          <p:cNvPicPr/>
          <p:nvPr/>
        </p:nvPicPr>
        <p:blipFill>
          <a:blip r:embed="rId1"/>
          <a:stretch/>
        </p:blipFill>
        <p:spPr>
          <a:xfrm>
            <a:off x="179280" y="2279520"/>
            <a:ext cx="5184720" cy="4044960"/>
          </a:xfrm>
          <a:prstGeom prst="rect">
            <a:avLst/>
          </a:prstGeom>
          <a:ln w="0">
            <a:noFill/>
          </a:ln>
        </p:spPr>
      </p:pic>
      <p:sp>
        <p:nvSpPr>
          <p:cNvPr id="485" name="TextBox 8"/>
          <p:cNvSpPr/>
          <p:nvPr/>
        </p:nvSpPr>
        <p:spPr>
          <a:xfrm>
            <a:off x="4714920" y="4500720"/>
            <a:ext cx="3062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仿宋"/>
                <a:ea typeface="仿宋"/>
              </a:rPr>
              <a:t>介绍人： 刘 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仿宋"/>
                <a:ea typeface="仿宋"/>
              </a:rPr>
              <a:t>班  级：工艺</a:t>
            </a:r>
            <a:r>
              <a:rPr b="1" lang="en-US" sz="2800" spc="-1" strike="noStrike">
                <a:solidFill>
                  <a:srgbClr val="0070c0"/>
                </a:solidFill>
                <a:latin typeface="仿宋"/>
                <a:ea typeface="仿宋"/>
              </a:rPr>
              <a:t>3</a:t>
            </a:r>
            <a:r>
              <a:rPr b="1" lang="zh-CN" sz="2800" spc="-1" strike="noStrike">
                <a:solidFill>
                  <a:srgbClr val="0070c0"/>
                </a:solidFill>
                <a:latin typeface="仿宋"/>
                <a:ea typeface="仿宋"/>
              </a:rPr>
              <a:t>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dur="indefinite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 txBox="1"/>
          <p:nvPr/>
        </p:nvSpPr>
        <p:spPr>
          <a:xfrm>
            <a:off x="457200" y="1285560"/>
            <a:ext cx="832968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月中旬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——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月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英语：单词、阅读（练习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+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翻译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数学：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基础课视频题（第三遍）、汤家凤高数线代强化（第二遍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政治：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大纲解析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一遍、肖秀荣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100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题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专业课：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丁忠伟《化工原理学习指导》第一遍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"/>
          <p:cNvSpPr txBox="1"/>
          <p:nvPr/>
        </p:nvSpPr>
        <p:spPr>
          <a:xfrm>
            <a:off x="457200" y="64260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11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月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考前一周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英语：何凯文作文背诵第四遍、恋练有词第三遍、真题一篇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数学：真题每天一套（上午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政治：</a:t>
            </a: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《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风中劲草</a:t>
            </a: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》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背诵）、肖秀荣</a:t>
            </a: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《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真题讲解</a:t>
            </a: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》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和</a:t>
            </a: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《</a:t>
            </a: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套卷</a:t>
            </a: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》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选择题训练）、肖秀荣</a:t>
            </a: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《</a:t>
            </a: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套卷</a:t>
            </a: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》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练习</a:t>
            </a: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+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全篇背诵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专业课：真题（模拟考试，归纳总结）、</a:t>
            </a: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 《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化工原理指导</a:t>
            </a: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》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复习笔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最后一周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调整状态，注意休息，注意饮食，适当复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36" name="组合 3"/>
          <p:cNvGrpSpPr/>
          <p:nvPr/>
        </p:nvGrpSpPr>
        <p:grpSpPr>
          <a:xfrm>
            <a:off x="0" y="372960"/>
            <a:ext cx="9144000" cy="1467000"/>
            <a:chOff x="0" y="372960"/>
            <a:chExt cx="9144000" cy="1467000"/>
          </a:xfrm>
        </p:grpSpPr>
        <p:sp>
          <p:nvSpPr>
            <p:cNvPr id="537" name="圆角矩形 4"/>
            <p:cNvSpPr/>
            <p:nvPr/>
          </p:nvSpPr>
          <p:spPr>
            <a:xfrm>
              <a:off x="0" y="372960"/>
              <a:ext cx="9144000" cy="1467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4bd97"/>
                </a:gs>
                <a:gs pos="50000">
                  <a:srgbClr val="ffffff"/>
                </a:gs>
                <a:gs pos="100000">
                  <a:srgbClr val="c4bd9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8" name="矩形 4"/>
            <p:cNvSpPr/>
            <p:nvPr/>
          </p:nvSpPr>
          <p:spPr>
            <a:xfrm>
              <a:off x="201600" y="572400"/>
              <a:ext cx="89107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800" spc="-1" strike="noStrike">
                  <a:solidFill>
                    <a:srgbClr val="0070c0"/>
                  </a:solidFill>
                  <a:latin typeface="华文行楷"/>
                  <a:ea typeface="华文行楷"/>
                </a:rPr>
                <a:t>阳光总在风雨后</a:t>
              </a:r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39" name="圆角矩形 15"/>
          <p:cNvSpPr/>
          <p:nvPr/>
        </p:nvSpPr>
        <p:spPr>
          <a:xfrm>
            <a:off x="4680" y="2708280"/>
            <a:ext cx="1576440" cy="9144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016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年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月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右箭头 16"/>
          <p:cNvSpPr/>
          <p:nvPr/>
        </p:nvSpPr>
        <p:spPr>
          <a:xfrm>
            <a:off x="2085840" y="2922480"/>
            <a:ext cx="979560" cy="486000"/>
          </a:xfrm>
          <a:prstGeom prst="rightArrow">
            <a:avLst>
              <a:gd name="adj1" fmla="val 50000"/>
              <a:gd name="adj2" fmla="val 49988"/>
            </a:avLst>
          </a:pr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圆角矩形 17"/>
          <p:cNvSpPr/>
          <p:nvPr/>
        </p:nvSpPr>
        <p:spPr>
          <a:xfrm>
            <a:off x="6945480" y="2708280"/>
            <a:ext cx="1576080" cy="9144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017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年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月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圆角矩形 18"/>
          <p:cNvSpPr/>
          <p:nvPr/>
        </p:nvSpPr>
        <p:spPr>
          <a:xfrm>
            <a:off x="3541680" y="2708280"/>
            <a:ext cx="1576440" cy="9144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016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年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2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月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右箭头 19"/>
          <p:cNvSpPr/>
          <p:nvPr/>
        </p:nvSpPr>
        <p:spPr>
          <a:xfrm>
            <a:off x="5672160" y="2924280"/>
            <a:ext cx="979560" cy="485640"/>
          </a:xfrm>
          <a:prstGeom prst="rightArrow">
            <a:avLst>
              <a:gd name="adj1" fmla="val 50000"/>
              <a:gd name="adj2" fmla="val 50024"/>
            </a:avLst>
          </a:pr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右箭头 20"/>
          <p:cNvSpPr/>
          <p:nvPr/>
        </p:nvSpPr>
        <p:spPr>
          <a:xfrm>
            <a:off x="303120" y="4653000"/>
            <a:ext cx="979560" cy="485640"/>
          </a:xfrm>
          <a:prstGeom prst="rightArrow">
            <a:avLst>
              <a:gd name="adj1" fmla="val 50000"/>
              <a:gd name="adj2" fmla="val 50024"/>
            </a:avLst>
          </a:pr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圆角矩形 21"/>
          <p:cNvSpPr/>
          <p:nvPr/>
        </p:nvSpPr>
        <p:spPr>
          <a:xfrm>
            <a:off x="1787400" y="4438800"/>
            <a:ext cx="1576440" cy="9144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017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年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月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右箭头 22"/>
          <p:cNvSpPr/>
          <p:nvPr/>
        </p:nvSpPr>
        <p:spPr>
          <a:xfrm>
            <a:off x="3840120" y="4654440"/>
            <a:ext cx="979560" cy="486000"/>
          </a:xfrm>
          <a:prstGeom prst="rightArrow">
            <a:avLst>
              <a:gd name="adj1" fmla="val 50000"/>
              <a:gd name="adj2" fmla="val 49988"/>
            </a:avLst>
          </a:pr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圆角矩形 24"/>
          <p:cNvSpPr/>
          <p:nvPr/>
        </p:nvSpPr>
        <p:spPr>
          <a:xfrm>
            <a:off x="5118120" y="4440240"/>
            <a:ext cx="1576440" cy="9144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拟录取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文本框 25"/>
          <p:cNvSpPr/>
          <p:nvPr/>
        </p:nvSpPr>
        <p:spPr>
          <a:xfrm>
            <a:off x="3541680" y="4073400"/>
            <a:ext cx="1106640" cy="368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等待结果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文本框 26"/>
          <p:cNvSpPr/>
          <p:nvPr/>
        </p:nvSpPr>
        <p:spPr>
          <a:xfrm>
            <a:off x="117360" y="4073400"/>
            <a:ext cx="1106640" cy="368280"/>
          </a:xfrm>
          <a:prstGeom prst="rect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准备复试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文本框 27"/>
          <p:cNvSpPr/>
          <p:nvPr/>
        </p:nvSpPr>
        <p:spPr>
          <a:xfrm>
            <a:off x="5353200" y="2384280"/>
            <a:ext cx="1106280" cy="368280"/>
          </a:xfrm>
          <a:prstGeom prst="rect">
            <a:avLst/>
          </a:prstGeom>
          <a:solidFill>
            <a:srgbClr val="6325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00"/>
                </a:solidFill>
                <a:latin typeface="Calibri"/>
                <a:ea typeface="宋体"/>
              </a:rPr>
              <a:t>等待成绩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文本框 28"/>
          <p:cNvSpPr/>
          <p:nvPr/>
        </p:nvSpPr>
        <p:spPr>
          <a:xfrm>
            <a:off x="1787400" y="2384280"/>
            <a:ext cx="1106640" cy="368280"/>
          </a:xfrm>
          <a:prstGeom prst="rect">
            <a:avLst/>
          </a:prstGeom>
          <a:solidFill>
            <a:srgbClr val="9537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00"/>
                </a:solidFill>
                <a:latin typeface="Calibri"/>
                <a:ea typeface="宋体"/>
              </a:rPr>
              <a:t>准备初试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8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3" name="组合 3"/>
          <p:cNvGrpSpPr/>
          <p:nvPr/>
        </p:nvGrpSpPr>
        <p:grpSpPr>
          <a:xfrm>
            <a:off x="0" y="372960"/>
            <a:ext cx="9144000" cy="1467000"/>
            <a:chOff x="0" y="372960"/>
            <a:chExt cx="9144000" cy="1467000"/>
          </a:xfrm>
        </p:grpSpPr>
        <p:sp>
          <p:nvSpPr>
            <p:cNvPr id="554" name="圆角矩形 4"/>
            <p:cNvSpPr/>
            <p:nvPr/>
          </p:nvSpPr>
          <p:spPr>
            <a:xfrm>
              <a:off x="0" y="372960"/>
              <a:ext cx="9144000" cy="1467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4bd97"/>
                </a:gs>
                <a:gs pos="50000">
                  <a:srgbClr val="ffffff"/>
                </a:gs>
                <a:gs pos="100000">
                  <a:srgbClr val="c4bd9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5" name="矩形 4"/>
            <p:cNvSpPr/>
            <p:nvPr/>
          </p:nvSpPr>
          <p:spPr>
            <a:xfrm>
              <a:off x="201600" y="572400"/>
              <a:ext cx="89107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800" spc="-1" strike="noStrike">
                  <a:solidFill>
                    <a:srgbClr val="0070c0"/>
                  </a:solidFill>
                  <a:latin typeface="华文行楷"/>
                  <a:ea typeface="华文行楷"/>
                </a:rPr>
                <a:t>春暖花开</a:t>
              </a:r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56" name="图片 5" descr=""/>
          <p:cNvPicPr/>
          <p:nvPr/>
        </p:nvPicPr>
        <p:blipFill>
          <a:blip r:embed="rId1"/>
          <a:stretch/>
        </p:blipFill>
        <p:spPr>
          <a:xfrm>
            <a:off x="1720800" y="1395360"/>
            <a:ext cx="5400720" cy="539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直接连接符 6"/>
          <p:cNvSpPr/>
          <p:nvPr/>
        </p:nvSpPr>
        <p:spPr>
          <a:xfrm flipV="1">
            <a:off x="-20520" y="1125000"/>
            <a:ext cx="9144000" cy="71640"/>
          </a:xfrm>
          <a:prstGeom prst="line">
            <a:avLst/>
          </a:prstGeom>
          <a:ln w="38160">
            <a:solidFill>
              <a:srgbClr val="00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直接连接符 7"/>
          <p:cNvSpPr/>
          <p:nvPr/>
        </p:nvSpPr>
        <p:spPr>
          <a:xfrm flipV="1">
            <a:off x="-20520" y="6308280"/>
            <a:ext cx="9144000" cy="71640"/>
          </a:xfrm>
          <a:prstGeom prst="line">
            <a:avLst/>
          </a:prstGeom>
          <a:ln w="38160">
            <a:solidFill>
              <a:srgbClr val="00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9" name="矩形 9" descr=""/>
          <p:cNvPicPr/>
          <p:nvPr/>
        </p:nvPicPr>
        <p:blipFill>
          <a:blip r:embed="rId1"/>
          <a:stretch/>
        </p:blipFill>
        <p:spPr>
          <a:xfrm>
            <a:off x="500040" y="1785960"/>
            <a:ext cx="8358120" cy="3416400"/>
          </a:xfrm>
          <a:prstGeom prst="rect">
            <a:avLst/>
          </a:prstGeom>
          <a:ln w="0">
            <a:noFill/>
          </a:ln>
        </p:spPr>
      </p:pic>
      <p:pic>
        <p:nvPicPr>
          <p:cNvPr id="560" name="图片 5" descr=""/>
          <p:cNvPicPr/>
          <p:nvPr/>
        </p:nvPicPr>
        <p:blipFill>
          <a:blip r:embed="rId2"/>
          <a:stretch/>
        </p:blipFill>
        <p:spPr>
          <a:xfrm>
            <a:off x="4286160" y="2500200"/>
            <a:ext cx="4857840" cy="37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25 E">
                                      <p:cBhvr>
                                        <p:cTn id="41" dur="2000" fill="hold"/>
                                        <p:tgtEl>
                                          <p:spTgt spid="5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2" dur="indefinite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43" dur="2000" fill="hold"/>
                                        <p:tgtEl>
                                          <p:spTgt spid="5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2000"/>
                            </p:stCondLst>
                            <p:childTnLst>
                              <p:par>
                                <p:cTn id="4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直接连接符 3"/>
          <p:cNvSpPr/>
          <p:nvPr/>
        </p:nvSpPr>
        <p:spPr>
          <a:xfrm flipV="1">
            <a:off x="-20520" y="1049040"/>
            <a:ext cx="9144000" cy="73080"/>
          </a:xfrm>
          <a:prstGeom prst="line">
            <a:avLst/>
          </a:prstGeom>
          <a:ln w="38160">
            <a:solidFill>
              <a:srgbClr val="00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直接连接符 4"/>
          <p:cNvSpPr/>
          <p:nvPr/>
        </p:nvSpPr>
        <p:spPr>
          <a:xfrm flipV="1">
            <a:off x="0" y="6324120"/>
            <a:ext cx="9144000" cy="71640"/>
          </a:xfrm>
          <a:prstGeom prst="line">
            <a:avLst/>
          </a:prstGeom>
          <a:ln w="38160">
            <a:solidFill>
              <a:srgbClr val="00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标题 1"/>
          <p:cNvSpPr/>
          <p:nvPr/>
        </p:nvSpPr>
        <p:spPr>
          <a:xfrm>
            <a:off x="1500120" y="233280"/>
            <a:ext cx="6072120" cy="789120"/>
          </a:xfrm>
          <a:prstGeom prst="rect">
            <a:avLst/>
          </a:prstGeom>
          <a:gradFill rotWithShape="0">
            <a:gsLst>
              <a:gs pos="0">
                <a:srgbClr val="9bbb59"/>
              </a:gs>
              <a:gs pos="100000">
                <a:srgbClr val="fffad4"/>
              </a:gs>
            </a:gsLst>
            <a:lin ang="2154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一、考研情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矩形 2"/>
          <p:cNvSpPr/>
          <p:nvPr/>
        </p:nvSpPr>
        <p:spPr>
          <a:xfrm>
            <a:off x="1143000" y="1714680"/>
            <a:ext cx="70009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初试总分：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367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政治：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63              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英语（一）：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57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数学（二）：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128        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化工原理：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119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录取院校：北京化工大学化学化工学院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录取专业：化学工程与技术              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0" name="图片 36" descr=""/>
          <p:cNvPicPr/>
          <p:nvPr/>
        </p:nvPicPr>
        <p:blipFill>
          <a:blip r:embed="rId1"/>
          <a:stretch/>
        </p:blipFill>
        <p:spPr>
          <a:xfrm>
            <a:off x="4884840" y="331920"/>
            <a:ext cx="4240080" cy="6029280"/>
          </a:xfrm>
          <a:prstGeom prst="rect">
            <a:avLst/>
          </a:prstGeom>
          <a:ln w="0">
            <a:noFill/>
          </a:ln>
        </p:spPr>
      </p:pic>
      <p:sp>
        <p:nvSpPr>
          <p:cNvPr id="491" name="直接连接符 3"/>
          <p:cNvSpPr/>
          <p:nvPr/>
        </p:nvSpPr>
        <p:spPr>
          <a:xfrm flipV="1">
            <a:off x="-20520" y="1049040"/>
            <a:ext cx="9144000" cy="73080"/>
          </a:xfrm>
          <a:prstGeom prst="line">
            <a:avLst/>
          </a:prstGeom>
          <a:ln w="38160">
            <a:solidFill>
              <a:srgbClr val="00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直接连接符 4"/>
          <p:cNvSpPr/>
          <p:nvPr/>
        </p:nvSpPr>
        <p:spPr>
          <a:xfrm flipV="1">
            <a:off x="0" y="6324120"/>
            <a:ext cx="9144000" cy="71640"/>
          </a:xfrm>
          <a:prstGeom prst="line">
            <a:avLst/>
          </a:prstGeom>
          <a:ln w="38160">
            <a:solidFill>
              <a:srgbClr val="00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标题 1"/>
          <p:cNvSpPr/>
          <p:nvPr/>
        </p:nvSpPr>
        <p:spPr>
          <a:xfrm>
            <a:off x="120600" y="233280"/>
            <a:ext cx="8666280" cy="789120"/>
          </a:xfrm>
          <a:prstGeom prst="rect">
            <a:avLst/>
          </a:prstGeom>
          <a:gradFill rotWithShape="0">
            <a:gsLst>
              <a:gs pos="0">
                <a:srgbClr val="9bbb59"/>
              </a:gs>
              <a:gs pos="100000">
                <a:srgbClr val="fffad4"/>
              </a:gs>
            </a:gsLst>
            <a:lin ang="2154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二、未来规划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94" name="Group 33"/>
          <p:cNvGrpSpPr/>
          <p:nvPr/>
        </p:nvGrpSpPr>
        <p:grpSpPr>
          <a:xfrm>
            <a:off x="185760" y="1452600"/>
            <a:ext cx="4724280" cy="685800"/>
            <a:chOff x="185760" y="1452600"/>
            <a:chExt cx="4724280" cy="685800"/>
          </a:xfrm>
        </p:grpSpPr>
        <p:sp>
          <p:nvSpPr>
            <p:cNvPr id="495" name="AutoShape 47"/>
            <p:cNvSpPr/>
            <p:nvPr/>
          </p:nvSpPr>
          <p:spPr>
            <a:xfrm>
              <a:off x="566640" y="157176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b050"/>
                </a:gs>
                <a:gs pos="50000">
                  <a:srgbClr val="f2dad9"/>
                </a:gs>
                <a:gs pos="100000">
                  <a:srgbClr val="00b050"/>
                </a:gs>
              </a:gsLst>
              <a:lin ang="5400000"/>
            </a:gra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6" name="AutoShape 48"/>
            <p:cNvSpPr/>
            <p:nvPr/>
          </p:nvSpPr>
          <p:spPr>
            <a:xfrm>
              <a:off x="185760" y="1452600"/>
              <a:ext cx="685800" cy="685800"/>
            </a:xfrm>
            <a:prstGeom prst="diamond">
              <a:avLst/>
            </a:prstGeom>
            <a:solidFill>
              <a:srgbClr val="00b05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7" name="Text Box 49"/>
            <p:cNvSpPr/>
            <p:nvPr/>
          </p:nvSpPr>
          <p:spPr>
            <a:xfrm>
              <a:off x="1025640" y="1571760"/>
              <a:ext cx="342900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 u="sng">
                  <a:solidFill>
                    <a:srgbClr val="0000ff"/>
                  </a:solidFill>
                  <a:uFillTx/>
                  <a:latin typeface="Calibri"/>
                  <a:ea typeface="宋体"/>
                  <a:hlinkClick r:id="rId2"/>
                </a:rPr>
                <a:t>考研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8" name="Text Box 50"/>
            <p:cNvSpPr/>
            <p:nvPr/>
          </p:nvSpPr>
          <p:spPr>
            <a:xfrm>
              <a:off x="342000" y="1550880"/>
              <a:ext cx="334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99" name="Group 33"/>
          <p:cNvGrpSpPr/>
          <p:nvPr/>
        </p:nvGrpSpPr>
        <p:grpSpPr>
          <a:xfrm>
            <a:off x="214200" y="2643120"/>
            <a:ext cx="5114880" cy="685800"/>
            <a:chOff x="214200" y="2643120"/>
            <a:chExt cx="5114880" cy="685800"/>
          </a:xfrm>
        </p:grpSpPr>
        <p:sp>
          <p:nvSpPr>
            <p:cNvPr id="500" name="AutoShape 47"/>
            <p:cNvSpPr/>
            <p:nvPr/>
          </p:nvSpPr>
          <p:spPr>
            <a:xfrm>
              <a:off x="595080" y="276228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b050"/>
                </a:gs>
                <a:gs pos="50000">
                  <a:srgbClr val="f2dad9"/>
                </a:gs>
                <a:gs pos="100000">
                  <a:srgbClr val="00b050"/>
                </a:gs>
              </a:gsLst>
              <a:lin ang="5400000"/>
            </a:gra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1" name="AutoShape 48"/>
            <p:cNvSpPr/>
            <p:nvPr/>
          </p:nvSpPr>
          <p:spPr>
            <a:xfrm>
              <a:off x="214200" y="2643120"/>
              <a:ext cx="685800" cy="685800"/>
            </a:xfrm>
            <a:prstGeom prst="diamond">
              <a:avLst/>
            </a:prstGeom>
            <a:solidFill>
              <a:srgbClr val="00b05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2" name="Text Box 49"/>
            <p:cNvSpPr/>
            <p:nvPr/>
          </p:nvSpPr>
          <p:spPr>
            <a:xfrm>
              <a:off x="1900080" y="280188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       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工作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3" name="Text Box 50"/>
            <p:cNvSpPr/>
            <p:nvPr/>
          </p:nvSpPr>
          <p:spPr>
            <a:xfrm>
              <a:off x="370440" y="2741400"/>
              <a:ext cx="334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alibri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04" name="Group 33"/>
          <p:cNvGrpSpPr/>
          <p:nvPr/>
        </p:nvGrpSpPr>
        <p:grpSpPr>
          <a:xfrm>
            <a:off x="214200" y="3929040"/>
            <a:ext cx="4714560" cy="685800"/>
            <a:chOff x="214200" y="3929040"/>
            <a:chExt cx="4714560" cy="685800"/>
          </a:xfrm>
        </p:grpSpPr>
        <p:sp>
          <p:nvSpPr>
            <p:cNvPr id="505" name="AutoShape 47"/>
            <p:cNvSpPr/>
            <p:nvPr/>
          </p:nvSpPr>
          <p:spPr>
            <a:xfrm>
              <a:off x="375480" y="4057560"/>
              <a:ext cx="455328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b050"/>
                </a:gs>
                <a:gs pos="50000">
                  <a:srgbClr val="f2dad9"/>
                </a:gs>
                <a:gs pos="100000">
                  <a:srgbClr val="00b050"/>
                </a:gs>
              </a:gsLst>
              <a:lin ang="5400000"/>
            </a:gra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6" name="AutoShape 48"/>
            <p:cNvSpPr/>
            <p:nvPr/>
          </p:nvSpPr>
          <p:spPr>
            <a:xfrm>
              <a:off x="214200" y="3929040"/>
              <a:ext cx="718920" cy="685800"/>
            </a:xfrm>
            <a:prstGeom prst="diamond">
              <a:avLst/>
            </a:prstGeom>
            <a:solidFill>
              <a:srgbClr val="00b05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7" name="Text Box 49"/>
            <p:cNvSpPr/>
            <p:nvPr/>
          </p:nvSpPr>
          <p:spPr>
            <a:xfrm>
              <a:off x="725040" y="4103640"/>
              <a:ext cx="359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     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出国留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8" name="Text Box 50"/>
            <p:cNvSpPr/>
            <p:nvPr/>
          </p:nvSpPr>
          <p:spPr>
            <a:xfrm>
              <a:off x="385920" y="4027320"/>
              <a:ext cx="334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alibri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09" name="Group 33"/>
          <p:cNvGrpSpPr/>
          <p:nvPr/>
        </p:nvGrpSpPr>
        <p:grpSpPr>
          <a:xfrm>
            <a:off x="214200" y="5286240"/>
            <a:ext cx="4724280" cy="685800"/>
            <a:chOff x="214200" y="5286240"/>
            <a:chExt cx="4724280" cy="685800"/>
          </a:xfrm>
        </p:grpSpPr>
        <p:sp>
          <p:nvSpPr>
            <p:cNvPr id="510" name="AutoShape 47"/>
            <p:cNvSpPr/>
            <p:nvPr/>
          </p:nvSpPr>
          <p:spPr>
            <a:xfrm>
              <a:off x="595080" y="540540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b050"/>
                </a:gs>
                <a:gs pos="50000">
                  <a:srgbClr val="f2dad9"/>
                </a:gs>
                <a:gs pos="100000">
                  <a:srgbClr val="00b050"/>
                </a:gs>
              </a:gsLst>
              <a:lin ang="5400000"/>
            </a:gra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1" name="AutoShape 48"/>
            <p:cNvSpPr/>
            <p:nvPr/>
          </p:nvSpPr>
          <p:spPr>
            <a:xfrm>
              <a:off x="214200" y="5286240"/>
              <a:ext cx="685800" cy="685800"/>
            </a:xfrm>
            <a:prstGeom prst="diamond">
              <a:avLst/>
            </a:prstGeom>
            <a:solidFill>
              <a:srgbClr val="00b05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2" name="Text Box 49"/>
            <p:cNvSpPr/>
            <p:nvPr/>
          </p:nvSpPr>
          <p:spPr>
            <a:xfrm>
              <a:off x="2228760" y="5449680"/>
              <a:ext cx="109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 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其他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3" name="Text Box 50"/>
            <p:cNvSpPr/>
            <p:nvPr/>
          </p:nvSpPr>
          <p:spPr>
            <a:xfrm>
              <a:off x="370440" y="5384520"/>
              <a:ext cx="334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alibri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" dur="250" autoRev="1" fill="hold"/>
                                        <p:tgtEl>
                                          <p:spTgt spid="50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）如何获取各大院校的招生信息（专业、人数、报录比、专业课科目等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①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网上查询：主要有学校官网、考研帮、研招网、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小木虫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等几大网站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②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咨询学长学姐（最直接最有效的方式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15" name="Group 33"/>
          <p:cNvGrpSpPr/>
          <p:nvPr/>
        </p:nvGrpSpPr>
        <p:grpSpPr>
          <a:xfrm>
            <a:off x="457200" y="274680"/>
            <a:ext cx="8228880" cy="1142640"/>
            <a:chOff x="457200" y="274680"/>
            <a:chExt cx="8228880" cy="1142640"/>
          </a:xfrm>
        </p:grpSpPr>
        <p:sp>
          <p:nvSpPr>
            <p:cNvPr id="516" name="AutoShape 47"/>
            <p:cNvSpPr/>
            <p:nvPr/>
          </p:nvSpPr>
          <p:spPr>
            <a:xfrm>
              <a:off x="1120320" y="473040"/>
              <a:ext cx="7565760" cy="761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b050"/>
                </a:gs>
                <a:gs pos="50000">
                  <a:srgbClr val="f2dad9"/>
                </a:gs>
                <a:gs pos="100000">
                  <a:srgbClr val="00b050"/>
                </a:gs>
              </a:gsLst>
              <a:lin ang="5400000"/>
            </a:gra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华文行楷"/>
                  <a:ea typeface="华文行楷"/>
                </a:rPr>
                <a:t>考研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7" name="AutoShape 48"/>
            <p:cNvSpPr/>
            <p:nvPr/>
          </p:nvSpPr>
          <p:spPr>
            <a:xfrm>
              <a:off x="457200" y="274680"/>
              <a:ext cx="1194480" cy="1142640"/>
            </a:xfrm>
            <a:prstGeom prst="diamond">
              <a:avLst/>
            </a:prstGeom>
            <a:solidFill>
              <a:srgbClr val="00b05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8" name="Text Box 50"/>
            <p:cNvSpPr/>
            <p:nvPr/>
          </p:nvSpPr>
          <p:spPr>
            <a:xfrm>
              <a:off x="830880" y="438120"/>
              <a:ext cx="485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000000"/>
                  </a:solidFill>
                  <a:latin typeface="华文行楷"/>
                  <a:ea typeface="华文行楷"/>
                </a:rPr>
                <a:t>三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22960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仿宋"/>
                <a:ea typeface="华文仿宋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华文仿宋"/>
                <a:ea typeface="华文仿宋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华文仿宋"/>
                <a:ea typeface="华文仿宋"/>
              </a:rPr>
              <a:t>）购买什么样的资料？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① </a:t>
            </a:r>
            <a:r>
              <a:rPr b="1" lang="zh-CN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英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单词：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APP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知米背单词、朱伟恋练有词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作文：何凯文作文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阅读：何凯文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长难句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、黄皮书（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真题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完型：星火英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         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重要的事情</a:t>
            </a:r>
            <a:r>
              <a:rPr b="1" lang="zh-CN" sz="2800" spc="-1" strike="noStrike">
                <a:solidFill>
                  <a:srgbClr val="0070c0"/>
                </a:solidFill>
                <a:latin typeface="华文仿宋"/>
                <a:ea typeface="华文仿宋"/>
              </a:rPr>
              <a:t>说三遍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           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重要的事情</a:t>
            </a:r>
            <a:r>
              <a:rPr b="1" lang="zh-CN" sz="2800" spc="-1" strike="noStrike">
                <a:solidFill>
                  <a:srgbClr val="7030a0"/>
                </a:solidFill>
                <a:latin typeface="华文仿宋"/>
                <a:ea typeface="华文仿宋"/>
              </a:rPr>
              <a:t>靠自己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"/>
          <p:cNvSpPr txBox="1"/>
          <p:nvPr/>
        </p:nvSpPr>
        <p:spPr>
          <a:xfrm>
            <a:off x="457200" y="928800"/>
            <a:ext cx="8229600" cy="564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② </a:t>
            </a:r>
            <a:r>
              <a:rPr b="1" lang="zh-CN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数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基础复习：同济六版高数课本、线性代数同济五版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           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（结合视频学习效率更高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基础巩固与提高：汤家凤强化视频、汤家凤数学二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180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、李永乐线性辅导书、汤家凤高数复习全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         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冲刺阶段：汤家凤冲刺视频、汤家凤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15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年真题解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10000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③ </a:t>
            </a:r>
            <a:r>
              <a:rPr b="1" lang="zh-CN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政治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-2538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53800" indent="-2538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基础提高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53800" indent="-2538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政治大纲解析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53800" indent="-2538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（结合视频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53800" indent="-2538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肖秀荣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100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题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53800" indent="-2538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（刷三遍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53800" indent="-2538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风中劲草（背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53800" indent="-2538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53800" indent="-253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53800" indent="-253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仿宋"/>
                <a:ea typeface="华文仿宋"/>
              </a:rPr>
              <a:t>冲刺复习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肖秀荣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套卷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背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肖秀荣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真题解析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肖秀荣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套卷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（背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宋体"/>
              </a:rPr>
              <a:t>重点：关注微信</a:t>
            </a:r>
            <a:r>
              <a:rPr b="0" lang="en-US" sz="2400" spc="-1" strike="noStrike">
                <a:solidFill>
                  <a:srgbClr val="ff0000"/>
                </a:solidFill>
                <a:latin typeface="宋体"/>
              </a:rPr>
              <a:t>“</a:t>
            </a:r>
            <a:r>
              <a:rPr b="0" lang="zh-CN" sz="2400" spc="-1" strike="noStrike">
                <a:solidFill>
                  <a:srgbClr val="ff0000"/>
                </a:solidFill>
                <a:latin typeface="宋体"/>
              </a:rPr>
              <a:t>肖秀荣教授</a:t>
            </a:r>
            <a:r>
              <a:rPr b="0" lang="en-US" sz="2400" spc="-1" strike="noStrike">
                <a:solidFill>
                  <a:srgbClr val="ff0000"/>
                </a:solidFill>
                <a:latin typeface="宋体"/>
              </a:rPr>
              <a:t>”“</a:t>
            </a:r>
            <a:r>
              <a:rPr b="0" lang="zh-CN" sz="2400" spc="-1" strike="noStrike">
                <a:solidFill>
                  <a:srgbClr val="ff0000"/>
                </a:solidFill>
                <a:latin typeface="宋体"/>
              </a:rPr>
              <a:t>老蒋政治蒋中挺</a:t>
            </a:r>
            <a:r>
              <a:rPr b="0" lang="en-US" sz="2400" spc="-1" strike="noStrike">
                <a:solidFill>
                  <a:srgbClr val="ff0000"/>
                </a:solidFill>
                <a:latin typeface="宋体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856800"/>
            <a:ext cx="822960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④ </a:t>
            </a:r>
            <a:r>
              <a:rPr b="1" lang="zh-CN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专业课（以北京化工大学大学版为例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457200" y="1600200"/>
            <a:ext cx="4362480" cy="51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本人考试用书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本科教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天大第二版《化工原理》上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仿宋"/>
                <a:ea typeface="仿宋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陈敏恒《化工原理》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习题练习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丁忠伟</a:t>
            </a: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《化工原理学习指导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北京化工大学化工原理考研真题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7" name="内容占位符 2" descr="微信图片_20170426225512"/>
          <p:cNvPicPr/>
          <p:nvPr/>
        </p:nvPicPr>
        <p:blipFill>
          <a:blip r:embed="rId1"/>
          <a:stretch/>
        </p:blipFill>
        <p:spPr>
          <a:xfrm>
            <a:off x="4984920" y="1600200"/>
            <a:ext cx="33940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直接连接符 3"/>
          <p:cNvSpPr/>
          <p:nvPr/>
        </p:nvSpPr>
        <p:spPr>
          <a:xfrm flipV="1">
            <a:off x="-20520" y="1049040"/>
            <a:ext cx="9144000" cy="73080"/>
          </a:xfrm>
          <a:prstGeom prst="line">
            <a:avLst/>
          </a:prstGeom>
          <a:ln w="38160">
            <a:solidFill>
              <a:srgbClr val="00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直接连接符 4"/>
          <p:cNvSpPr/>
          <p:nvPr/>
        </p:nvSpPr>
        <p:spPr>
          <a:xfrm flipV="1">
            <a:off x="0" y="6324120"/>
            <a:ext cx="9144000" cy="71640"/>
          </a:xfrm>
          <a:prstGeom prst="line">
            <a:avLst/>
          </a:prstGeom>
          <a:ln w="38160">
            <a:solidFill>
              <a:srgbClr val="00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标题 1"/>
          <p:cNvSpPr/>
          <p:nvPr/>
        </p:nvSpPr>
        <p:spPr>
          <a:xfrm>
            <a:off x="1500120" y="233280"/>
            <a:ext cx="6072120" cy="789120"/>
          </a:xfrm>
          <a:prstGeom prst="rect">
            <a:avLst/>
          </a:prstGeom>
          <a:gradFill rotWithShape="0">
            <a:gsLst>
              <a:gs pos="0">
                <a:srgbClr val="9bbb59"/>
              </a:gs>
              <a:gs pos="100000">
                <a:srgbClr val="fffad4"/>
              </a:gs>
            </a:gsLst>
            <a:lin ang="2154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</a:t>
            </a:r>
            <a:r>
              <a:rPr b="0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4</a:t>
            </a:r>
            <a:r>
              <a:rPr b="0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）</a:t>
            </a: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复习规划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矩形 2"/>
          <p:cNvSpPr/>
          <p:nvPr/>
        </p:nvSpPr>
        <p:spPr>
          <a:xfrm>
            <a:off x="1143000" y="1714680"/>
            <a:ext cx="700092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现阶段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——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月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英语：单词、长难句（结合视频）、四六级真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数学：高数课本上下册、线代课本、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复习全书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》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第一遍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月份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——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月上旬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英语：单词、阅读（每天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篇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数学：基础课视频题（第二遍）、汤家凤高数线代强化（第一遍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专业课：课本复习一遍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0T12:10:31Z</dcterms:created>
  <dc:creator>Administrator</dc:creator>
  <dc:description/>
  <dc:language>en-US</dc:language>
  <cp:lastModifiedBy>Administrator</cp:lastModifiedBy>
  <dcterms:modified xsi:type="dcterms:W3CDTF">2017-04-27T10:07:41Z</dcterms:modified>
  <cp:revision>129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235</vt:lpwstr>
  </property>
</Properties>
</file>