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BA0-9799-405E-8B97-1A2A94D6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9A9-2F9E-45D9-B6A1-B7E692A9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900-3977-462E-A51D-A3B6E82E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8E5-2DEC-48BA-9A72-D13ACDF7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0903-1BE6-46A2-8128-0EA9E400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7C92-E2C5-4C9C-9E2F-94412BA2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DF38-EA79-4C24-96EA-1657AFC1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481A-D6AF-4548-B32C-FBCDBAF3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A282-E401-4070-AD6F-C76C1008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15AD-97A9-4ED9-A4C8-A84BFC19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465C-A977-4F1A-A6C8-85BB9584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D0A-819C-42F0-B250-7623A263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3E5D-58DA-4E2D-9AD8-707C413F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F821-9004-4914-B1DA-60F47853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F867-24DA-4876-822F-2769BCDB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D25B-30B5-42F5-912E-487E7F4E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81BF-E250-45B7-9D0E-D5AE7FCF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C7B4-89E2-47E6-9734-1123581E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4E8D-A8F3-4757-BB7B-2C29283D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6975-7396-4170-8116-BD40E7EF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D6F2-C226-446F-8CF6-F2039FC1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1C01-E9AF-4CB4-961B-0A374C50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BBC-90B8-41B4-B2D5-A7AC4240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C179-D2E1-4C42-AE1B-3EB26F3A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A9DF-E530-4171-9BE6-EECFE66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979C-2151-4DCF-81DF-82A14EF0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A891-F562-41FF-B462-39FF850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CDC8-9B77-4F40-B7C2-F81A54A0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178B-6DC5-4439-85CB-529F3D4E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11A7-4B85-4F7A-94A2-6EAF8F97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BAFE-13BE-4D40-9243-A0E308AA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B250-9569-4628-B7F5-15E6EE18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74D2-881B-4E02-9CC7-2E71EE62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C3C-27BE-4DA4-B5F8-9B23E1B7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C728-7287-423D-9A3D-A6828F0F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AE1E-8F5D-42A9-AE7F-6603A773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3DC25-6F4C-4B84-AE7A-DE6D612B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F2751-94C6-4A54-8349-C8C8E4AD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E338-66B7-4A62-862C-213BE43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946F-D302-4961-8724-0F9F58C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FBFCB-C57B-455E-BF67-F9E44339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C461-29E2-4EC9-B8AA-AC8BD27D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8565-56D1-4D81-8348-E95FE087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3F5-0F96-4E0D-AD07-0E104823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348-1B45-42AC-929A-3F25081F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6C1-1F92-4355-AB38-EF7290E2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833-0BF3-44B0-928A-55D1FBD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7DC-3380-41EF-8B06-4B3A89B1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AB98-2737-46B7-80F8-07DC36778B66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1422-6592-44FB-BE0B-ACE4F9452A4F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7E2-A2C5-4A39-A785-40C08D13650B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4A09-1A0C-467F-B4F1-CC71DF1E3099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标题 1" descr=""/>
          <p:cNvPicPr/>
          <p:nvPr/>
        </p:nvPicPr>
        <p:blipFill>
          <a:blip r:embed="rId1"/>
          <a:stretch/>
        </p:blipFill>
        <p:spPr>
          <a:xfrm>
            <a:off x="536400" y="1206360"/>
            <a:ext cx="7345440" cy="1871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926120" cy="2648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姓名：曹洪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专业：应用化学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5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报考学校：南京工业大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4.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保持心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心态很重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在备战考研的过程中，会遇到各种各样的问题，但一定要保证心态的平稳。每年考研都会有很多人这样那样的原因，坚持不下去，中途放弃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遇到烦心事，可以适当放松一下，或者觉着今天复习的很好，可以适当奖励吃顿好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360" y="2781360"/>
            <a:ext cx="842472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nstantia"/>
              </a:rPr>
              <a:t>祝大家考研成功上岸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选择学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主要是向学长学姐，还有同学打听想报考院校信息，，最后理了理，综合考虑学校名气，城市地理位置，以后发展前景，地域有没有压分，歧视外省等因素，排了个一二三，最终选择三个理想院校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可以向老师请教，你有意向的学校，专业怎么样，或者让老师向你推荐，毕竟他们经验丰富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可以着重考虑我们学校每年师兄，师姐考上的学校。因为一是有熟悉的人，二是这些学校不太会存在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压分，歧视的情况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如何复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时间安排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6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基础阶段，着重基础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-8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强化阶段，做题，用实践检验一阶段的复习成果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左右。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最重要的阶段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真题阶段，英语，数学，专业课刷真题，多刷几遍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-14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冲刺阶段，模拟练习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-14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临近考前可以适当调整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000" y="691920"/>
            <a:ext cx="821844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英语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词汇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每天都要背单词，时间不用长，单词不能停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阅读是考研英语中分最重的，多练，多练，多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英语真题最重要，总结出现过的高频词汇，尤其是阅读中的，熟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对于英语来说，后期不要做除作文外的模拟题，多做几遍真题。模拟题的水平永远考研真题的水平。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1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背英语作文，并且一定要动手写，动手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用书：恋练有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华研外语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阅读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真题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何凯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写作高分攻略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11280" y="907920"/>
            <a:ext cx="813744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数学（练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打好基础，无论你选择的是张宇，汤家凤还是李永乐（差别不大）在一轮复习时都要打好基础，重视基本定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在暑假的冲刺阶段，是数学的最重要的阶段，多刷题，多见见题型，可以做汤家凤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0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和李永乐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6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（全是选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填空）这时候也是错的最多阶段，不要灰心，多总结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数学的真题最好在规定的时间内练习，注意观察每年所考的知识点，总结高频考点（无穷小替换，微分方程等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000" y="980640"/>
            <a:ext cx="82184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模拟阶段，用模拟题来做限时训练，考察自己应试能力。张宇的很灵活也是最难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套卷还可以做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套卷太难了（有兴趣的可以挑战）。汤家凤的还可以，难度中等，但每一张的题型感觉有些类似。合工大超越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共创比较简单，但这只有电子版的，有时间的可以练练。最后李林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+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难度中等偏上，有一些灵活性，我比较喜欢的（个人感觉，仅供参考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用书：李永乐复习全书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汤家凤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00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李永乐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60+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真题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押题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4920" y="620280"/>
            <a:ext cx="83026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背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不用开始太早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都可以。可以跟着肖秀荣老师的复习全书，跟着视频看，尤其是他着重强调的内容，同时配套做他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0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题，每天看一章并做配套的练习题，大概两个半月可以看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是唯一不用做真题的科目，上一年的考过的内容，今年基本不会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的背诵内容较多，模拟题推荐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尤其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用书：肖秀荣三件套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徐涛核心考点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691920"/>
            <a:ext cx="829152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专业课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找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学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当你定好考研目标院校后，一定要及时的去查询这个学校的招生专业目录（在研招网上都可以查到）了解专业课考试科目，招生人数，以及专业课书的版本（很重要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能找到历年真题最好，专业课每年的重点变化不会太大，通过历年真题，可以了解题型和重点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最好能找到的学长，学姐，他们的复习资料都是很全的，能节省时间，精力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专业课比较重要，复试时，比较看重，一定要认真学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制定适合自己的计划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 不要人云亦云，制定适合自己的计划，会事半功倍。可以借鉴，但不要照搬别人的复习计划。适合自己的才是最好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比如：我上午状态好，    下午不好。那就早上早起，晚上早点回来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）制定计划后，一定要坚持执行。不要经常和别人比较，按自己的计划来，适合自己的才是最好的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根据自己的复习进度，及时的调整自己觉得计划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比如：最后一个月根据考研日程安排，调整为上午复习政治，数学，下午复习英语，专业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2:39:57Z</dcterms:created>
  <dc:creator>Administrator</dc:creator>
  <dc:description/>
  <dc:language>en-US</dc:language>
  <cp:lastModifiedBy>Administrator</cp:lastModifiedBy>
  <dcterms:modified xsi:type="dcterms:W3CDTF">2019-04-10T03:11:27Z</dcterms:modified>
  <cp:revision>14</cp:revision>
  <dc:subject/>
  <dc:title>考研</dc:title>
</cp:coreProperties>
</file>