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C3A-A357-4494-AD23-933FB208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85D-6745-4129-B4B0-8E50C43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9BC-3B38-4F88-A182-41FF235E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419-C0DF-4197-89EF-BA225E76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7BD-0869-4B99-8ACD-B5A98FCD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8F71-2D1A-4759-B4DF-A7EDC22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596C-1D20-4EA2-91B7-8FDE6C08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85DF-4E0A-4EE7-BE47-CA972DC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A9A-CAA1-4434-BFD0-6B881E2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FEBE-EAA4-4EA7-97C3-F6388B2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C6C3-1E33-426F-B473-D2E2D5C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D2-8820-41C0-B475-B584D96D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67C7-59AA-4F3E-A5C7-A90262A8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F1FA-7D2C-45DE-BC7C-E0E98DA2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C805-C825-4F7E-B36A-FF12EFE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6426-461C-4A4E-9CE4-9E829F4F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4BBE-BE37-4F2F-B00A-6B6EB1FC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17CA-3AC4-4C23-9AE2-5BA13510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11D8-C331-4EAA-A6F3-B80EF011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B93E-D0BA-4D7F-BB05-0B7625C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C440-FB98-49B3-8051-232F88C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0472-6216-4D77-9E21-0EE38163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E35-C653-4F50-A223-0BF82BD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1B29-65A0-4DF3-9413-E09271C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6A91-29DA-4232-9750-C9A2FFC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7883-184C-41FE-B4D7-7EC052F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9B13-8405-47FC-8259-BED1762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61C3-2503-4832-9ACE-9213C9A5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C3EE-F4BC-4AAB-8E1A-08BAC081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E7CF-D0AF-4FF2-A692-B806F89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26E9-B135-4E30-9D3D-7BF918D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D338-2326-408D-844D-9F9B60F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B244-185E-4C18-A172-44D1A31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7EB-40F0-45F4-856F-B76AE63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A1CF-BEFB-4E36-A03B-36E4253B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92A4-9D0D-48F8-9D03-068D1537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E3DE-3B32-44E7-98D1-725B7FAA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86CC-6F9D-40A6-9EB0-FFF19AD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70DD-999A-4331-97C8-57EF945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AFFA-9045-485D-BEB6-F73FB94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FD2A-F494-47B5-B6FC-52D2CB9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2BE2-198A-4C64-9E82-3315E90C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13EE-49E4-4637-A4D0-490C4E56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09A-2949-49D0-A179-603334D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249-4FF9-4C8A-AE5E-B01372A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2E-5A32-40AD-9ECF-684084D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0DF-B87C-4F6A-9390-B704DE1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A37-A811-4C2A-8C97-F42DD84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3F50-4D71-4DB5-8906-D2B9B77A8F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A540-58E2-40D2-81DE-48C4688712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5B73-C089-453A-9252-037AF5E432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151-3DE0-45FF-922B-EAC14FD415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A1F-FA85-4F6D-A356-41A32832B9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E126-7E13-4052-99AC-D1C683D56F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046-5828-43EF-87FF-BEDAA425C8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A46-D234-4983-AD88-84243A4ECE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4761000" y="2521080"/>
            <a:ext cx="3940200" cy="4851360"/>
          </a:xfrm>
          <a:prstGeom prst="rect">
            <a:avLst/>
          </a:prstGeom>
          <a:ln w="0">
            <a:noFill/>
          </a:ln>
        </p:spPr>
      </p:pic>
      <p:sp>
        <p:nvSpPr>
          <p:cNvPr id="171" name="椭圆 5"/>
          <p:cNvSpPr/>
          <p:nvPr/>
        </p:nvSpPr>
        <p:spPr>
          <a:xfrm>
            <a:off x="3903840" y="91440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0880" y="1158480"/>
            <a:ext cx="1403280" cy="31734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逐浪马列大楷体"/>
                <a:ea typeface="逐浪马列大楷体"/>
              </a:rPr>
              <a:t>经验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椭圆 5"/>
          <p:cNvSpPr/>
          <p:nvPr/>
        </p:nvSpPr>
        <p:spPr>
          <a:xfrm>
            <a:off x="3903840" y="1557360"/>
            <a:ext cx="3963960" cy="380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38400" y="2971440"/>
            <a:ext cx="3894120" cy="11811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A_MH_Others_11"/>
          <p:cNvSpPr/>
          <p:nvPr/>
        </p:nvSpPr>
        <p:spPr>
          <a:xfrm>
            <a:off x="8420040" y="1092240"/>
            <a:ext cx="1087560" cy="1092240"/>
          </a:xfrm>
          <a:prstGeom prst="ellipse">
            <a:avLst/>
          </a:prstGeom>
          <a:solidFill>
            <a:srgbClr val="d0cccc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57"/>
          <p:cNvSpPr/>
          <p:nvPr/>
        </p:nvSpPr>
        <p:spPr>
          <a:xfrm>
            <a:off x="9317160" y="1300320"/>
            <a:ext cx="2087280" cy="2006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A_MH_Others_12"/>
          <p:cNvSpPr/>
          <p:nvPr/>
        </p:nvSpPr>
        <p:spPr>
          <a:xfrm>
            <a:off x="9169560" y="2479680"/>
            <a:ext cx="7207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CONT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3"/>
          <p:cNvGrpSpPr/>
          <p:nvPr/>
        </p:nvGrpSpPr>
        <p:grpSpPr>
          <a:xfrm>
            <a:off x="2336760" y="2027160"/>
            <a:ext cx="5753160" cy="2493720"/>
            <a:chOff x="2336760" y="2027160"/>
            <a:chExt cx="5753160" cy="2493720"/>
          </a:xfrm>
        </p:grpSpPr>
        <p:grpSp>
          <p:nvGrpSpPr>
            <p:cNvPr id="177" name="组合 36"/>
            <p:cNvGrpSpPr/>
            <p:nvPr/>
          </p:nvGrpSpPr>
          <p:grpSpPr>
            <a:xfrm>
              <a:off x="2336760" y="2027160"/>
              <a:ext cx="5753160" cy="684000"/>
              <a:chOff x="2336760" y="2027160"/>
              <a:chExt cx="5753160" cy="684000"/>
            </a:xfrm>
          </p:grpSpPr>
          <p:sp>
            <p:nvSpPr>
              <p:cNvPr id="178" name="文本框 37"/>
              <p:cNvSpPr/>
              <p:nvPr/>
            </p:nvSpPr>
            <p:spPr>
              <a:xfrm>
                <a:off x="2336760" y="202716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01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38"/>
              <p:cNvSpPr/>
              <p:nvPr/>
            </p:nvSpPr>
            <p:spPr>
              <a:xfrm>
                <a:off x="3076560" y="2183760"/>
                <a:ext cx="5013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简单自我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40"/>
            <p:cNvGrpSpPr/>
            <p:nvPr/>
          </p:nvGrpSpPr>
          <p:grpSpPr>
            <a:xfrm>
              <a:off x="2336760" y="2931480"/>
              <a:ext cx="5717160" cy="684000"/>
              <a:chOff x="2336760" y="2931480"/>
              <a:chExt cx="5717160" cy="684000"/>
            </a:xfrm>
          </p:grpSpPr>
          <p:sp>
            <p:nvSpPr>
              <p:cNvPr id="181" name="文本框 41"/>
              <p:cNvSpPr/>
              <p:nvPr/>
            </p:nvSpPr>
            <p:spPr>
              <a:xfrm>
                <a:off x="2336760" y="2931480"/>
                <a:ext cx="7398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02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42"/>
              <p:cNvSpPr/>
              <p:nvPr/>
            </p:nvSpPr>
            <p:spPr>
              <a:xfrm>
                <a:off x="3112560" y="3064320"/>
                <a:ext cx="4941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学校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44"/>
            <p:cNvGrpSpPr/>
            <p:nvPr/>
          </p:nvGrpSpPr>
          <p:grpSpPr>
            <a:xfrm>
              <a:off x="2336760" y="3836880"/>
              <a:ext cx="5753160" cy="684000"/>
              <a:chOff x="2336760" y="3836880"/>
              <a:chExt cx="5753160" cy="684000"/>
            </a:xfrm>
          </p:grpSpPr>
          <p:sp>
            <p:nvSpPr>
              <p:cNvPr id="184" name="文本框 45"/>
              <p:cNvSpPr/>
              <p:nvPr/>
            </p:nvSpPr>
            <p:spPr>
              <a:xfrm>
                <a:off x="2336760" y="383688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03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46"/>
              <p:cNvSpPr/>
              <p:nvPr/>
            </p:nvSpPr>
            <p:spPr>
              <a:xfrm>
                <a:off x="3148920" y="3970440"/>
                <a:ext cx="494100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考研准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01160" y="1761840"/>
            <a:ext cx="1403280" cy="17002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标题 60"/>
          <p:cNvSpPr/>
          <p:nvPr/>
        </p:nvSpPr>
        <p:spPr>
          <a:xfrm>
            <a:off x="8089920" y="1173240"/>
            <a:ext cx="1403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9690120" y="2860560"/>
            <a:ext cx="1847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191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195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8"/>
          <p:cNvSpPr/>
          <p:nvPr/>
        </p:nvSpPr>
        <p:spPr>
          <a:xfrm>
            <a:off x="4559400" y="814320"/>
            <a:ext cx="268920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"/>
          <p:cNvSpPr/>
          <p:nvPr/>
        </p:nvSpPr>
        <p:spPr>
          <a:xfrm>
            <a:off x="1982880" y="1890720"/>
            <a:ext cx="9024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姓名：彭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科专业：生物制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院校：中国药科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专业：微生物与生化药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初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2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复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07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录取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34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796825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05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09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8"/>
          <p:cNvSpPr/>
          <p:nvPr/>
        </p:nvSpPr>
        <p:spPr>
          <a:xfrm>
            <a:off x="4751280" y="1079640"/>
            <a:ext cx="268776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1805040" y="2347920"/>
            <a:ext cx="92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药科大学坐落于古都南京。是一所历史悠久、特色鲜明、学风优良、在药学界享有盛誉的教育部直属、国家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程”和国家“双一流”建设高校（一流学科），是我国首批具有博士、硕士学位授予权的高等学校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19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23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考研准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11"/>
          <p:cNvGrpSpPr/>
          <p:nvPr/>
        </p:nvGrpSpPr>
        <p:grpSpPr>
          <a:xfrm>
            <a:off x="520560" y="730080"/>
            <a:ext cx="5759640" cy="3229920"/>
            <a:chOff x="520560" y="730080"/>
            <a:chExt cx="5759640" cy="3229920"/>
          </a:xfrm>
        </p:grpSpPr>
        <p:sp>
          <p:nvSpPr>
            <p:cNvPr id="229" name="TextBox 28"/>
            <p:cNvSpPr/>
            <p:nvPr/>
          </p:nvSpPr>
          <p:spPr>
            <a:xfrm>
              <a:off x="1461600" y="730080"/>
              <a:ext cx="3642480" cy="642600"/>
            </a:xfrm>
            <a:prstGeom prst="rect">
              <a:avLst/>
            </a:prstGeom>
            <a:solidFill>
              <a:srgbClr val="55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Mangal"/>
                </a:rPr>
                <a:t>考研准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4"/>
            <p:cNvSpPr/>
            <p:nvPr/>
          </p:nvSpPr>
          <p:spPr>
            <a:xfrm>
              <a:off x="520560" y="1916280"/>
              <a:ext cx="575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初试准备（资料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英语：英语真题、何凯文的阅读、何凯文绝密考场</a:t>
              </a:r>
              <a:r>
                <a:rPr b="0" lang="en-US" sz="3200" spc="-1" strike="noStrike">
                  <a:solidFill>
                    <a:srgbClr val="404040"/>
                  </a:solidFill>
                  <a:latin typeface="Arial"/>
                </a:rPr>
                <a:t>8</a:t>
              </a: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套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政治：全程跟的蒋中挺，全部用的他的资料，个人感觉还不错，强推客观题应试宝典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专业课：我的专业课是生化、有机、分析和生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7432560" y="1469880"/>
            <a:ext cx="3632400" cy="4476960"/>
          </a:xfrm>
          <a:prstGeom prst="rect">
            <a:avLst/>
          </a:prstGeom>
          <a:ln w="0">
            <a:noFill/>
          </a:ln>
        </p:spPr>
      </p:pic>
      <p:sp>
        <p:nvSpPr>
          <p:cNvPr id="232" name="椭圆 5"/>
          <p:cNvSpPr/>
          <p:nvPr/>
        </p:nvSpPr>
        <p:spPr>
          <a:xfrm>
            <a:off x="6811920" y="120636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8"/>
          <p:cNvSpPr/>
          <p:nvPr/>
        </p:nvSpPr>
        <p:spPr>
          <a:xfrm>
            <a:off x="4284720" y="709560"/>
            <a:ext cx="4494240" cy="4899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Mangal"/>
              </a:rPr>
              <a:t>准备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"/>
          <p:cNvSpPr/>
          <p:nvPr/>
        </p:nvSpPr>
        <p:spPr>
          <a:xfrm>
            <a:off x="1019160" y="2203560"/>
            <a:ext cx="108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每天背单词，然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阅读真题（每天两篇或者是四篇）第一遍精刷，大概刷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遍的样子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完型和新题型（大概做了两边）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做英语翻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政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一直跟着文都的班，真正的系统的复习应该是文都暑假的集训，这个阶段就把政治的所有科目通拉了两遍，开始刷蒋中挺的八百题，有些人也开始刷肖秀荣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题。（第一遍精刷，用铅笔）同时配合记蒋中挺的客观题应试宝典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中旬刷第二检查自己的复习结果，找出自己的薄弱点，精准攻克。刷完后就开始背蒋中挺冲刺考点必背、刷蒋中挺的真题预测百分百，后期等蒋五或者肖四、肖八出来，把选择题做了，理解清楚，直接背大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专业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这个根据个人情况安排吧，实话说我的专业课看分数就很糟糕，所以这个我也没有什么好给你们交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>kingsoft</dc:creator>
  <dc:description/>
  <dc:language>en-US</dc:language>
  <cp:lastModifiedBy>fool</cp:lastModifiedBy>
  <dcterms:modified xsi:type="dcterms:W3CDTF">2019-04-07T02:43:25Z</dcterms:modified>
  <cp:revision>3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