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12829-A266-4114-8BC5-D564659C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98F33-52E9-4EE0-BE43-51D9A871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D2A04-FA3C-482C-9CCF-7E9D0AAB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DB2A6-CF85-4ED3-A8C1-C6DC7ABD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EF078-FEC8-4FC0-8D67-55B3A4EE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31FC9-B0A6-4C2B-89FA-96807C91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56694-F088-42E0-BD35-A28DE7F8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A0CD1-17BB-46B0-B301-2580A5D7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E93B2-DE65-4C21-BD58-CA0BC6C4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16AFE-C7A0-48BD-8170-5AF577AB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92B94-4E5C-4AE6-9C5E-669FCE4A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50FC4-346B-4C8B-9434-AA0D582F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B5F17-FF0E-4767-970D-038AF3B3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42259-B52E-40EC-ADEB-7E2EEF2A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FF6BB-3C6D-4BBD-B42E-FCCF689F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754A3-A07E-4E29-A301-1943AEF4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EFD91-45EF-4482-9F32-225CDE04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67935-AA42-43FF-B377-3DEA2AF0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437BF-742F-4059-9401-91F8BE0C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49A2D-C477-4BBA-A89E-C25390C6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23009-2D5F-4800-81DA-55220893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A82B5-0BE6-4579-8BA4-92640487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20192-A612-44F6-B008-8CD497DE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65982-3089-4AC5-AD79-B073047E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A1F5D-40FF-4878-9EDD-2A68F411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FE2B1-6005-40B7-8D6E-48350A2C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CA22A-64F8-49FE-81D4-40F1AEAF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FB0C8-F5DF-4FC8-B1EF-D5E209BF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79C56-C207-462F-8214-025412A8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BCCD6-D652-4D1D-8A8A-83EACED9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DC591-E6AE-4A15-833F-305B15D2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53A70-21F5-4969-A5EF-7D8D230A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BA70D-8612-4F90-AF9F-184C4C01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1C404-A7DC-4E2F-B506-A4ED7F14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9C43-9380-4BA3-9C53-7F23D2CE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BABAC-B255-4791-9CDC-63C6D93E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A881B-8BCE-4C77-AB01-E5C13CC2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5EF4A-1887-4344-8233-ECE5E494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B8D23-4786-4AF1-AF4F-EA3EBD0F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DD1B9-EE5D-4DBD-8680-FC35CA21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0E27E-1D4B-419F-8239-ACF555BC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E0E90-99E4-4571-88F6-230AB4E1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F4954-12C7-41A1-86EA-D754B755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BECA6-5C4A-4FD0-98CF-D89929B2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F4A14-DD62-416E-9F97-41355320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074A-9A64-48F7-B381-503F2EAA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37655-1DF2-44DA-BDBE-74807076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FD430-44FF-4A50-B377-B885331C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16346-BEE1-4D88-AF8F-C8A197C3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7F26B-628B-4917-B005-905A13B6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66111-CD7D-4CE0-BF53-9BB70225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0C2FE7-6C0F-43D9-8101-0FC7D47A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29C4B-2696-4EB9-B0A1-1B102748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A4D11-B440-4479-85ED-E1D62F44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68247-9F3B-437D-870A-84646A27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0490A-1321-4AE9-97A9-1459F587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4C6E-0161-4E93-BC9F-6A00EC21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0CD03-0971-4BC0-8126-0C35FBDF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F3B97-2243-4628-89EE-F1FABD5B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0781C-6DF1-4998-B9F7-EC614ACA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3E4CC-FD40-4CC5-8311-94358CE5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D1190-C6D1-4A27-A706-B01A448A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F5BA0-530D-4334-A4E9-9887379F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07AED-E022-4B2F-AF1F-7CE06026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AE9F34-E4AF-433A-91BB-634C13EF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06EDA-310C-47CC-BD1C-43B26F90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9F789-5925-4538-9998-D11E9713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29F7-E995-4494-9D3B-185CAD88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0768C-1939-423A-898E-4CB2E0E8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3B2AA-F55E-4752-B2BF-238DD19B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C97449-C5AE-47EB-8A4B-7C3F6C72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FE2DEC-C700-4F69-9B89-8C2A7442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3CBBE6-AD11-4A65-AC0F-B32946FC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250F3-6056-4B24-8159-F9615958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83AF8-2F11-42F1-8438-511ADDD6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A5633-8643-4247-BB6B-E8B6535A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FEDE1B-E4B0-4B09-857F-2E345BA9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ACCD4B-2BC3-4A14-8E00-77F31A7F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8CD9-E4AD-4525-A500-15AEF513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C19D76-5C59-4AC1-8A48-067A48B6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989CD-38F8-437A-B73E-5225DB08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A39FE-934D-4AB0-A798-85CDBBC7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D2205B-2FB0-45AF-9DBB-FBAE94FD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223609-B6F4-4299-A697-C39E0D16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E9CC4D-E7DE-424C-BF9E-DD7E3AA4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B1E2DA-3FE1-42D0-AC66-58806557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5006A6-E7F8-43B5-BC3B-ED65A7D5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3BF50A-97CC-4F7E-9419-FD4AF9DF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C212CF-84DA-4758-BCF8-776F78AF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4104-C010-4842-9FB1-40A84EA5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00AEB-4837-4A85-997D-6D02D993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7200AA-AB75-4644-B0A5-94DEE522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CFE27-87A3-4F90-954D-35308FBB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7CC381-3A99-423C-B61F-CABEF939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3248D-BDFD-4572-8467-E3FD2D19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9EF051-628E-41BC-B042-14921450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56D47D-B19C-4730-B20C-9FD1ED36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A877BF-6F99-42B8-B421-A767E2AA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85BBAA-C92F-4F53-A248-A26D6F6E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14D79E-958C-4065-807F-D88D0E81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A904-758F-4E73-BABB-8713C4D3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79CC4F-2057-4B06-9A66-92E05BCD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BCF5EE-AB99-4F94-AD7C-184C82F6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D812DE-5B33-4381-B19A-E3B692B7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F75128-B51E-4B28-A888-CD3F8888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5C81D8-1723-4C3C-A3CF-CABFCD64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2F4F9F-CF1F-46C9-9A91-FA41D03F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07F11C-B646-4EB9-B306-06EC168D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B36620-4247-4E3A-AF68-B7C94BE2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9C8AA1-F8A5-473A-A49E-701404B5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1BA34-1C60-429E-B95E-391F5D73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E9ABE-00A5-4A61-897D-0120E987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B65C-0E39-4245-BC76-62D84919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E58DBD-35EF-4DE7-91A3-91C8DE3A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E03E02-B65F-4E4E-9C46-B55EEBCF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4679BA-EE2C-460B-8D0D-6434B3A9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8E0E4F-C74E-4777-B2FF-B4A98E07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1A526C-AC31-48CB-BA01-222BB34B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0FAD26-7646-4D5E-800F-4CDF5079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FA3C5D-23AE-4AA8-9BBF-0475E9B7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3E5934-C22D-4DF8-8886-A5D5B024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304710-8D9A-4B14-BA68-FA18E4A8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49928F-17A8-470B-AD3E-3DBD1B67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20AB-FD52-451F-8117-B306B5FF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D0567B-03B6-49B5-9097-1E297FCD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ECD5AB-A6C4-4013-993A-6C7ECAF8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EBF2DF-E3C2-42D7-804C-C98CC220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430814-7D32-46EA-BF8E-B6070E8B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985097-F8C5-48F9-88DB-3AE84487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F4550E-ADC7-4D90-9F87-E3CA9686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FCD62C-0904-4F69-879B-5E4ED385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A695-F504-4DB0-A9D9-3A7EB6CD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C4B7-D5A1-4E63-AA3B-891BFC51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BAB3-808B-40F7-8610-20C8B714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BAAE1-1239-4FC4-94D5-9DDEE009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C0832-7F66-48A1-BDA0-C2124785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1E55A-0D16-4B5B-906D-7B77F91A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639B5-779D-43AC-9587-FDD81F9B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CEEAC-8483-41CC-96EB-8B321B3A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EE79-8F83-4A12-B369-9AA7BB85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04BC9-C91D-4272-B072-FED5F93A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C95BE-EAAB-4884-9A97-4A13866A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F4E5F-E10F-4090-B8B8-9E0738DE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9F90B-D705-4144-B234-7903FF01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901CB-24C0-488F-95DF-B5CFB95E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2B8D6-4AB9-4519-AAAD-466378AA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CB166-9EB3-40A4-8861-6139746C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E0A71-1A5D-4ACA-969B-6218FE64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DEDC6-E59E-4836-9D74-7CD02301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36BE9-9F08-4293-9159-EC488AA7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AC2DB-387E-4E88-840D-32DB887C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57670-063F-416B-8738-0619BEEF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C9816-B527-4AE6-9FAE-078F3E7F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4B7E8-7111-42C2-AE79-C9A5BC1C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DB277-69E2-45A4-916F-66280181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2A085-4637-45E7-8893-D209CE69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B54F1-F232-479E-B420-D9411552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E2A83-CB73-4C5A-9749-0B2AB61E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AC262-2568-40A3-9143-B76C380B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4DF8C-A8B0-4542-B8DA-B7ABD98F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CAD9D-7CAB-4A04-B048-1B793008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C582-29C2-4C51-A438-F9F1A5BA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8431D-C268-44E8-B08E-1543C8D0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64296-A4CE-4950-A637-041E2CDE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095E0-F499-454C-9AB0-6919125C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3303B-58DB-4402-A932-D90D16E3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5A1BE-1044-4A81-9FAD-427CF2D6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1B267-B2E5-42B7-95F4-55CC7182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1291E-6E32-4E96-9871-892539C5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3CE97-D6A1-4C15-8523-854F35BD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FA672-1F60-4123-ADF9-C9F34CEE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86B58-A98A-48FF-84A9-654F6303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2165-BD5B-4B4C-8406-43C6C990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D3F2F-2D70-49CB-AA51-FA5B49EF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28FE8-9AE4-4BB0-A8B1-B0C740F6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99BD9-C87B-4337-A7A5-6DD250FF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6B95C-A866-4B69-8064-D0621E71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88466-24FE-4ECD-9255-2334261E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06462-05CD-4658-B127-0E0C5166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9A197-DFF2-4D64-AA22-4C64D495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9FBD9-4FAC-4737-9EA6-F6EDF21B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DE28A-DCCF-4564-8C96-8BA8F0FA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163D4-671E-4AD2-ABD1-7D1EC1EA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396AD-3114-46B6-89BF-37369CE3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B4B1F-3055-4A23-A6B6-D2036966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72873-E101-430D-8FD3-912F8F40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26D5F-D9AE-40F6-AE02-D04D55BF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DB84E-266D-4935-AF43-4A730487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7CFD5-C993-4341-BC72-CE1D86EE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EBFE4-1AC3-420F-A54A-8FBB208C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B62F7-5255-4ED7-8E7A-9BF834CC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6ADE2-1211-4199-A71B-489990BB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CD484-7101-439C-B76D-8E9CB7C5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53D5B-226B-4D7C-B5B7-B2E8190D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FEDBD-C0F9-40B9-AFD2-EC129D59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A9A83-EAD6-403A-9959-F1DD6CE9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04F43-FEC4-486F-BBCC-5F9669F3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2B203-FF69-4C2D-B416-D416185A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BA6C4-6448-4BFE-BB6A-BEE1C3E0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4A34F-5D6F-43F0-8C69-7F197652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B4450-7607-4D4C-94E1-F8AE3CB9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EAD5F-2133-44E4-A2C5-F672F048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17425-21D5-4216-A1AF-2167FD30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CEED2-2C2C-4C1A-8FAF-9834C3CA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01380-8CFF-49B5-BBF7-6DE71F7D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ECC99-6C14-44FE-A452-CE42050F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3971D-338F-4B35-9149-13655438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3FC87-8D92-4229-96BB-E1EAD6F5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5789C-74F2-48A2-9D08-4E967F96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73DC3-900C-45AE-BC52-4B78BF4F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7CBF2-9651-4701-B2AE-0299842A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DD6F6-675A-4B68-8520-AD47C00F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FD9F5-AC0E-4C6B-AC83-C58467B0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46730-3AF4-4F3F-BBFC-9928EE41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82E7D-484D-4F4E-854F-7618B455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5948E-07A3-4394-A109-97E49946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62000" y="5716440"/>
            <a:ext cx="985680" cy="986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97080" y="5716440"/>
            <a:ext cx="985680" cy="987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433600" y="5716440"/>
            <a:ext cx="986040" cy="986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62000" y="4581360"/>
            <a:ext cx="985680" cy="986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 flipH="1">
            <a:off x="2124000" y="677880"/>
            <a:ext cx="70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5408640" y="106200"/>
            <a:ext cx="3686040" cy="1881360"/>
            <a:chOff x="5408640" y="106200"/>
            <a:chExt cx="3686040" cy="1881360"/>
          </a:xfrm>
        </p:grpSpPr>
        <p:sp>
          <p:nvSpPr>
            <p:cNvPr id="6" name="Freeform 8"/>
            <p:cNvSpPr/>
            <p:nvPr/>
          </p:nvSpPr>
          <p:spPr>
            <a:xfrm>
              <a:off x="5408640" y="672840"/>
              <a:ext cx="1789200" cy="89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461280" y="671400"/>
              <a:ext cx="2633400" cy="1316160"/>
            </a:xfrm>
            <a:prstGeom prst="pie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113520" y="280800"/>
              <a:ext cx="789120" cy="39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7356600" y="106200"/>
              <a:ext cx="1123920" cy="568440"/>
            </a:xfrm>
            <a:prstGeom prst="pie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12"/>
          <p:cNvSpPr/>
          <p:nvPr/>
        </p:nvSpPr>
        <p:spPr>
          <a:xfrm>
            <a:off x="0" y="620640"/>
            <a:ext cx="50036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1080"/>
            <a:ext cx="8215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5760" y="1596960"/>
            <a:ext cx="82152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9480" indent="-412920">
              <a:spcBef>
                <a:spcPts val="799"/>
              </a:spcBef>
              <a:buClr>
                <a:srgbClr val="f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776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6360" indent="-378000">
              <a:spcBef>
                <a:spcPts val="799"/>
              </a:spcBef>
              <a:buClr>
                <a:srgbClr val="f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3585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3585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3585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61880" y="6227280"/>
            <a:ext cx="2160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6635880" y="6227280"/>
            <a:ext cx="20174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F2EE-5263-4627-85BA-22B87D7D9D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ftr" idx="3"/>
          </p:nvPr>
        </p:nvSpPr>
        <p:spPr>
          <a:xfrm>
            <a:off x="3161880" y="6227280"/>
            <a:ext cx="29336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04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17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EC38-7911-4B9F-8F98-3FDD9853BD64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73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86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3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79E3-7A52-46CB-8989-DC89395320AD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2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5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0EDE-05C8-4EB6-97D0-6C7268BBECE8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39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5CEA-3737-4EFF-90E9-B3E642A0D1C1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82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95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AD28-1969-477B-AD9D-15EFFD6DEE1E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5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6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4B03-5918-49D0-B066-46C32DEE2077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22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35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 type="sldNum" idx="48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CD2B-C374-4293-A67F-5DB57B2AC5F5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9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0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5437-5493-4C53-8164-732D6CB5697B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6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7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7D56-B3E2-46AF-8AFB-8BB1CBF3F28E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3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6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7622-F7CD-493B-9490-8C98F4E110C6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8"/>
          <p:cNvSpPr/>
          <p:nvPr/>
        </p:nvSpPr>
        <p:spPr>
          <a:xfrm>
            <a:off x="-31680" y="4321080"/>
            <a:ext cx="1395360" cy="78120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3295-23C7-44B4-8A9B-A777E32CF7F8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9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0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F9D1-C692-4D10-BB7F-ACDA37D3BBDC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5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7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7B2B-9CE5-4467-B384-88E7114F48E7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28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41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B885-FBFF-4117-9F09-F057F3CF6F9B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97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10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D894-F0D8-469E-9768-DD93422AD173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66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79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EEBB-8D09-463D-B8B8-BE9432D8A53F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35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48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34B8-AA20-45FD-B61C-001650D60C02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1"/>
          <p:cNvSpPr/>
          <p:nvPr/>
        </p:nvSpPr>
        <p:spPr>
          <a:xfrm>
            <a:off x="731880" y="1683000"/>
            <a:ext cx="760104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勤奋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专注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坚持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考研成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考研经历分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30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1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2" name="文本框 1"/>
          <p:cNvSpPr/>
          <p:nvPr/>
        </p:nvSpPr>
        <p:spPr>
          <a:xfrm>
            <a:off x="6227640" y="4316400"/>
            <a:ext cx="24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工艺本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王永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319" name="矩形 7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考研并没有那么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菱形 8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文本框 1"/>
          <p:cNvSpPr/>
          <p:nvPr/>
        </p:nvSpPr>
        <p:spPr>
          <a:xfrm>
            <a:off x="1187280" y="1484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：我的专业课期末都是飘过的，考研专业课那么难，肿么破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实学长的专业课曾经也是飘过的，那只是说明当时没有认真挺好课做好课后作业而已。当你复习了高数再去学自学专业课，你会发现原来专业课里面好多高数知识啊！这就是学以致用，慢慢的便都融会贯通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Box 3"/>
          <p:cNvSpPr/>
          <p:nvPr/>
        </p:nvSpPr>
        <p:spPr>
          <a:xfrm>
            <a:off x="1209600" y="278136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下面我谈下我的考研过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首先我没有报班，基础一般。其次我参加了第九届化工设计竞赛，也就是三井杯，从去年四月份一直做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月份，去昆明理工答完辩回校我记得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号，然后去成都同学家一趟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回校开始正式考研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你没听错，我只复习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个月的时间。中间还有专业实验和校外实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总结考研成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我想说：专注、勤奋、坚持！考研并没有那么难，相信自己！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ou   can  do   it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324" name="矩形 7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考研励志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菱形 8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6" name="文本框 1"/>
          <p:cNvSpPr/>
          <p:nvPr/>
        </p:nvSpPr>
        <p:spPr>
          <a:xfrm>
            <a:off x="1187280" y="13003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分享一些考研路上激励我的句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Box 1"/>
          <p:cNvSpPr/>
          <p:nvPr/>
        </p:nvSpPr>
        <p:spPr>
          <a:xfrm>
            <a:off x="1258920" y="1989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hing is impossible for a willing heart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之所愿，无所不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Box 10"/>
          <p:cNvSpPr/>
          <p:nvPr/>
        </p:nvSpPr>
        <p:spPr>
          <a:xfrm>
            <a:off x="1258920" y="262728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hung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foolish.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忘初心，方得始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Box 11"/>
          <p:cNvSpPr/>
          <p:nvPr/>
        </p:nvSpPr>
        <p:spPr>
          <a:xfrm>
            <a:off x="1258920" y="327492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arder you wor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ukier you will be.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越努力越幸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Box 12"/>
          <p:cNvSpPr/>
          <p:nvPr/>
        </p:nvSpPr>
        <p:spPr>
          <a:xfrm>
            <a:off x="1258920" y="392436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rther the heart is ,the farther the road is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有多远，路就有多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Box 13"/>
          <p:cNvSpPr/>
          <p:nvPr/>
        </p:nvSpPr>
        <p:spPr>
          <a:xfrm>
            <a:off x="1258920" y="457200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rther the heart is ,the farther the road is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有多远，路就有多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14"/>
          <p:cNvSpPr/>
          <p:nvPr/>
        </p:nvSpPr>
        <p:spPr>
          <a:xfrm>
            <a:off x="900000" y="529128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when you choi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atter wind and rain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既然选择了远方便只顾风雨兼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334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5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WordArt 2"/>
          <p:cNvSpPr txBox="1"/>
          <p:nvPr/>
        </p:nvSpPr>
        <p:spPr>
          <a:xfrm>
            <a:off x="2843280" y="2565360"/>
            <a:ext cx="3313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37" name="TextBox 2"/>
          <p:cNvSpPr/>
          <p:nvPr/>
        </p:nvSpPr>
        <p:spPr>
          <a:xfrm>
            <a:off x="2711880" y="1062000"/>
            <a:ext cx="274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联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19780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最后祝愿学弟学妹们考研顺利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8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339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0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3" name="组合 9"/>
          <p:cNvGrpSpPr/>
          <p:nvPr/>
        </p:nvGrpSpPr>
        <p:grpSpPr>
          <a:xfrm>
            <a:off x="1335240" y="1650960"/>
            <a:ext cx="4017960" cy="647640"/>
            <a:chOff x="1335240" y="1650960"/>
            <a:chExt cx="4017960" cy="647640"/>
          </a:xfrm>
        </p:grpSpPr>
        <p:sp>
          <p:nvSpPr>
            <p:cNvPr id="1234" name="矩形 6"/>
            <p:cNvSpPr/>
            <p:nvPr/>
          </p:nvSpPr>
          <p:spPr>
            <a:xfrm>
              <a:off x="1862280" y="17492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个人考研情况和考研须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菱形 5"/>
            <p:cNvSpPr/>
            <p:nvPr/>
          </p:nvSpPr>
          <p:spPr>
            <a:xfrm>
              <a:off x="1335240" y="165096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组合 22"/>
          <p:cNvGrpSpPr/>
          <p:nvPr/>
        </p:nvGrpSpPr>
        <p:grpSpPr>
          <a:xfrm>
            <a:off x="1862280" y="2395440"/>
            <a:ext cx="3921120" cy="647640"/>
            <a:chOff x="1862280" y="2395440"/>
            <a:chExt cx="3921120" cy="647640"/>
          </a:xfrm>
        </p:grpSpPr>
        <p:sp>
          <p:nvSpPr>
            <p:cNvPr id="1237" name="矩形 23"/>
            <p:cNvSpPr/>
            <p:nvPr/>
          </p:nvSpPr>
          <p:spPr>
            <a:xfrm>
              <a:off x="2292480" y="248256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b050"/>
                  </a:solidFill>
                  <a:latin typeface="Arial"/>
                </a:rPr>
                <a:t>考研的五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菱形 24"/>
            <p:cNvSpPr/>
            <p:nvPr/>
          </p:nvSpPr>
          <p:spPr>
            <a:xfrm>
              <a:off x="1862280" y="239544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组合 25"/>
          <p:cNvGrpSpPr/>
          <p:nvPr/>
        </p:nvGrpSpPr>
        <p:grpSpPr>
          <a:xfrm>
            <a:off x="2300400" y="3139920"/>
            <a:ext cx="3921120" cy="648000"/>
            <a:chOff x="2300400" y="3139920"/>
            <a:chExt cx="3921120" cy="648000"/>
          </a:xfrm>
        </p:grpSpPr>
        <p:sp>
          <p:nvSpPr>
            <p:cNvPr id="1240" name="矩形 26"/>
            <p:cNvSpPr/>
            <p:nvPr/>
          </p:nvSpPr>
          <p:spPr>
            <a:xfrm>
              <a:off x="2730600" y="3227040"/>
              <a:ext cx="3490920" cy="47340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我的建议和推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菱形 27"/>
            <p:cNvSpPr/>
            <p:nvPr/>
          </p:nvSpPr>
          <p:spPr>
            <a:xfrm>
              <a:off x="2300400" y="3139920"/>
              <a:ext cx="860400" cy="64800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2" name="圆角矩形 10"/>
          <p:cNvSpPr/>
          <p:nvPr/>
        </p:nvSpPr>
        <p:spPr>
          <a:xfrm>
            <a:off x="1392120" y="527040"/>
            <a:ext cx="1606680" cy="885960"/>
          </a:xfrm>
          <a:prstGeom prst="roundRect">
            <a:avLst>
              <a:gd name="adj" fmla="val 16667"/>
            </a:avLst>
          </a:prstGeom>
          <a:solidFill>
            <a:srgbClr val="e3e9db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要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矩形 11"/>
          <p:cNvSpPr/>
          <p:nvPr/>
        </p:nvSpPr>
        <p:spPr>
          <a:xfrm>
            <a:off x="3160800" y="3948120"/>
            <a:ext cx="3490920" cy="473040"/>
          </a:xfrm>
          <a:prstGeom prst="rect">
            <a:avLst/>
          </a:prstGeom>
          <a:solidFill>
            <a:srgbClr val="e3e9d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考研并没有那么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菱形 12"/>
          <p:cNvSpPr/>
          <p:nvPr/>
        </p:nvSpPr>
        <p:spPr>
          <a:xfrm>
            <a:off x="2730600" y="3860640"/>
            <a:ext cx="860400" cy="648000"/>
          </a:xfrm>
          <a:prstGeom prst="diamond">
            <a:avLst/>
          </a:prstGeom>
          <a:solidFill>
            <a:srgbClr val="e3e9d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矩形 13"/>
          <p:cNvSpPr/>
          <p:nvPr/>
        </p:nvSpPr>
        <p:spPr>
          <a:xfrm>
            <a:off x="3457440" y="4740120"/>
            <a:ext cx="3490920" cy="473400"/>
          </a:xfrm>
          <a:prstGeom prst="rect">
            <a:avLst/>
          </a:prstGeom>
          <a:solidFill>
            <a:srgbClr val="e3e9d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考研励志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菱形 14"/>
          <p:cNvSpPr/>
          <p:nvPr/>
        </p:nvSpPr>
        <p:spPr>
          <a:xfrm>
            <a:off x="3027240" y="4653000"/>
            <a:ext cx="860400" cy="647640"/>
          </a:xfrm>
          <a:prstGeom prst="diamond">
            <a:avLst/>
          </a:prstGeom>
          <a:solidFill>
            <a:srgbClr val="e3e9d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48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9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215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Text Box 6"/>
          <p:cNvSpPr/>
          <p:nvPr/>
        </p:nvSpPr>
        <p:spPr>
          <a:xfrm>
            <a:off x="706320" y="1628640"/>
            <a:ext cx="7848720" cy="38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b0f0"/>
                </a:solidFill>
                <a:latin typeface="宋体"/>
              </a:rPr>
              <a:t>个人考研基本信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录取院校：中国石油大学（华东） 化学工程学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录取专业：化学工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初试成绩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政治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6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英语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6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学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8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专业课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2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PS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：中石油（华东）初试专业课只能选物化，与许多学校不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初试专业排名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7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试排名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今年本专业复试分数线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90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试录取比例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3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复试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1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，录取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组合 9"/>
          <p:cNvGrpSpPr/>
          <p:nvPr/>
        </p:nvGrpSpPr>
        <p:grpSpPr>
          <a:xfrm>
            <a:off x="179280" y="54000"/>
            <a:ext cx="4017960" cy="647640"/>
            <a:chOff x="179280" y="54000"/>
            <a:chExt cx="4017960" cy="647640"/>
          </a:xfrm>
        </p:grpSpPr>
        <p:sp>
          <p:nvSpPr>
            <p:cNvPr id="1253" name="矩形 10"/>
            <p:cNvSpPr/>
            <p:nvPr/>
          </p:nvSpPr>
          <p:spPr>
            <a:xfrm>
              <a:off x="706320" y="15228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个人考研情况和考研须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菱形 11"/>
            <p:cNvSpPr/>
            <p:nvPr/>
          </p:nvSpPr>
          <p:spPr>
            <a:xfrm>
              <a:off x="179280" y="5400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56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7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8" name="图片 9" descr="QQ图片20151011115809.jpg"/>
          <p:cNvPicPr/>
          <p:nvPr/>
        </p:nvPicPr>
        <p:blipFill>
          <a:blip r:embed="rId2"/>
          <a:stretch/>
        </p:blipFill>
        <p:spPr>
          <a:xfrm>
            <a:off x="2928960" y="357120"/>
            <a:ext cx="1876320" cy="3038400"/>
          </a:xfrm>
          <a:prstGeom prst="rect">
            <a:avLst/>
          </a:prstGeom>
          <a:ln w="0">
            <a:noFill/>
          </a:ln>
        </p:spPr>
      </p:pic>
      <p:pic>
        <p:nvPicPr>
          <p:cNvPr id="1259" name="图片 12" descr="QQ图片20151011115756.jpg"/>
          <p:cNvPicPr/>
          <p:nvPr/>
        </p:nvPicPr>
        <p:blipFill>
          <a:blip r:embed="rId3"/>
          <a:stretch/>
        </p:blipFill>
        <p:spPr>
          <a:xfrm>
            <a:off x="6500880" y="357120"/>
            <a:ext cx="226692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215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1" name="Text Box 6"/>
          <p:cNvSpPr/>
          <p:nvPr/>
        </p:nvSpPr>
        <p:spPr>
          <a:xfrm>
            <a:off x="711360" y="1197000"/>
            <a:ext cx="78483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</a:rPr>
              <a:t>考研须知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b0f0"/>
                </a:solidFill>
                <a:latin typeface="方正舒体"/>
                <a:ea typeface="方正舒体"/>
              </a:rPr>
              <a:t>为什么考研？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方正舒体"/>
                <a:ea typeface="方正舒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你对这个专业真的感兴趣吗？</a:t>
            </a:r>
            <a:r>
              <a:rPr b="0" lang="zh-CN" sz="3000" spc="-1" strike="noStrike">
                <a:solidFill>
                  <a:srgbClr val="002060"/>
                </a:solidFill>
                <a:latin typeface="华文行楷"/>
                <a:ea typeface="华文行楷"/>
              </a:rPr>
              <a:t>兴趣</a:t>
            </a:r>
            <a:r>
              <a:rPr b="0" lang="zh-CN" sz="2000" spc="-1" strike="noStrike">
                <a:solidFill>
                  <a:srgbClr val="002060"/>
                </a:solidFill>
                <a:latin typeface="仿宋"/>
                <a:ea typeface="仿宋"/>
              </a:rPr>
              <a:t>是最好的老师。兴趣会不会给你带来学习的动力，只有有过这种感觉的人才会明白。我相信大家都曾有过对于一些事物因为感兴趣而去学习的感觉，只是时间长短而已。考研需要兴趣，也更需要</a:t>
            </a:r>
            <a:r>
              <a:rPr b="0" lang="zh-CN" sz="2000" spc="-1" strike="noStrike">
                <a:solidFill>
                  <a:srgbClr val="ff0000"/>
                </a:solidFill>
                <a:latin typeface="仿宋"/>
                <a:ea typeface="仿宋"/>
              </a:rPr>
              <a:t>勤奋</a:t>
            </a:r>
            <a:r>
              <a:rPr b="0" lang="zh-CN" sz="2000" spc="-1" strike="noStrike">
                <a:solidFill>
                  <a:srgbClr val="002060"/>
                </a:solidFill>
                <a:latin typeface="仿宋"/>
                <a:ea typeface="仿宋"/>
              </a:rPr>
              <a:t>和</a:t>
            </a:r>
            <a:r>
              <a:rPr b="0" lang="zh-CN" sz="2000" spc="-1" strike="noStrike">
                <a:solidFill>
                  <a:srgbClr val="ff0000"/>
                </a:solidFill>
                <a:latin typeface="仿宋"/>
                <a:ea typeface="仿宋"/>
              </a:rPr>
              <a:t>专注</a:t>
            </a:r>
            <a:r>
              <a:rPr b="0" lang="zh-CN" sz="2000" spc="-1" strike="noStrike">
                <a:solidFill>
                  <a:srgbClr val="002060"/>
                </a:solidFill>
                <a:latin typeface="仿宋"/>
                <a:ea typeface="仿宋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仿宋"/>
                <a:ea typeface="仿宋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考研是最适合我的选择吗？</a:t>
            </a:r>
            <a:r>
              <a:rPr b="0" lang="zh-CN" sz="2000" spc="-1" strike="noStrike">
                <a:solidFill>
                  <a:srgbClr val="7030a0"/>
                </a:solidFill>
                <a:latin typeface="仿宋"/>
                <a:ea typeface="仿宋"/>
              </a:rPr>
              <a:t>我认为考研并不是唯一的选择，也不一定是最好的选择。关键是你想要什么，你要选择什么样的道路？不论你选择什么，这是你的选择，要对自己的选择负责，你现在的选择将决定你今后的生活。如果你选择了考研，就一定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坚持下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仿宋"/>
                <a:ea typeface="仿宋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2" name="组合 9"/>
          <p:cNvGrpSpPr/>
          <p:nvPr/>
        </p:nvGrpSpPr>
        <p:grpSpPr>
          <a:xfrm>
            <a:off x="179280" y="54000"/>
            <a:ext cx="4017960" cy="647640"/>
            <a:chOff x="179280" y="54000"/>
            <a:chExt cx="4017960" cy="647640"/>
          </a:xfrm>
        </p:grpSpPr>
        <p:sp>
          <p:nvSpPr>
            <p:cNvPr id="1263" name="矩形 10"/>
            <p:cNvSpPr/>
            <p:nvPr/>
          </p:nvSpPr>
          <p:spPr>
            <a:xfrm>
              <a:off x="706320" y="15228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个人考研情况和考研须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菱形 11"/>
            <p:cNvSpPr/>
            <p:nvPr/>
          </p:nvSpPr>
          <p:spPr>
            <a:xfrm>
              <a:off x="179280" y="5400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66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7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215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9" name="Text Box 6"/>
          <p:cNvSpPr/>
          <p:nvPr/>
        </p:nvSpPr>
        <p:spPr>
          <a:xfrm>
            <a:off x="711360" y="1197000"/>
            <a:ext cx="784836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</a:rPr>
              <a:t>考研须知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方正舒体"/>
                <a:ea typeface="方正舒体"/>
              </a:rPr>
              <a:t>如何选择报考学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可以说考研院校的选择至关重要，由于不了解考研中的诸多因素，导致报考学校时的跟风、盲目、举棋不定都是对考研不利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建议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考研初期可以根据自己的兴趣爱好、自我学习能力评估、本科课程的掌握程度，给自己进行合理定位，初步确定几所不同层次高校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考虑所报高校初试专业课，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分清学术型和专业型硕士的区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每年考研网上正式报名时间在十月份。去年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至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也就是到了考研后期，这是对于自己的复习情况基本有所了解，确定好所报高校后，最好不要随意再进行更改，避免因所报高校专业不同而浪费精力。此时要相信自己，将精力放在复习冲刺上。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组合 9"/>
          <p:cNvGrpSpPr/>
          <p:nvPr/>
        </p:nvGrpSpPr>
        <p:grpSpPr>
          <a:xfrm>
            <a:off x="179280" y="54000"/>
            <a:ext cx="4017960" cy="647640"/>
            <a:chOff x="179280" y="54000"/>
            <a:chExt cx="4017960" cy="647640"/>
          </a:xfrm>
        </p:grpSpPr>
        <p:sp>
          <p:nvSpPr>
            <p:cNvPr id="1271" name="矩形 10"/>
            <p:cNvSpPr/>
            <p:nvPr/>
          </p:nvSpPr>
          <p:spPr>
            <a:xfrm>
              <a:off x="706320" y="15228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个人考研情况和考研须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菱形 11"/>
            <p:cNvSpPr/>
            <p:nvPr/>
          </p:nvSpPr>
          <p:spPr>
            <a:xfrm>
              <a:off x="179280" y="5400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74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5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6"/>
          <p:cNvSpPr/>
          <p:nvPr/>
        </p:nvSpPr>
        <p:spPr>
          <a:xfrm>
            <a:off x="0" y="6440400"/>
            <a:ext cx="9144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6f54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组合 22"/>
          <p:cNvGrpSpPr/>
          <p:nvPr/>
        </p:nvGrpSpPr>
        <p:grpSpPr>
          <a:xfrm>
            <a:off x="179280" y="0"/>
            <a:ext cx="3961080" cy="647640"/>
            <a:chOff x="179280" y="0"/>
            <a:chExt cx="3961080" cy="647640"/>
          </a:xfrm>
        </p:grpSpPr>
        <p:sp>
          <p:nvSpPr>
            <p:cNvPr id="1278" name="矩形 11"/>
            <p:cNvSpPr/>
            <p:nvPr/>
          </p:nvSpPr>
          <p:spPr>
            <a:xfrm>
              <a:off x="649080" y="87120"/>
              <a:ext cx="349128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b05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b050"/>
                  </a:solidFill>
                  <a:latin typeface="Arial"/>
                </a:rPr>
                <a:t>考研五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菱形 12"/>
            <p:cNvSpPr/>
            <p:nvPr/>
          </p:nvSpPr>
          <p:spPr>
            <a:xfrm>
              <a:off x="179280" y="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文本框 2"/>
          <p:cNvSpPr/>
          <p:nvPr/>
        </p:nvSpPr>
        <p:spPr>
          <a:xfrm>
            <a:off x="1039680" y="1341360"/>
            <a:ext cx="77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考研是对整个大学学习的一次总结，让你对自己所学专业进行一次系统的复习。本科生到研究生，就是量变到质变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文本框 2"/>
          <p:cNvSpPr/>
          <p:nvPr/>
        </p:nvSpPr>
        <p:spPr>
          <a:xfrm>
            <a:off x="1042920" y="3645000"/>
            <a:ext cx="773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学历的提升，当下，虽然公司企业强调个人能力，但越来越多的情况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历要求成为了一道门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文本框 2"/>
          <p:cNvSpPr/>
          <p:nvPr/>
        </p:nvSpPr>
        <p:spPr>
          <a:xfrm>
            <a:off x="1042920" y="5229360"/>
            <a:ext cx="77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考研就像一场战斗，一旦你坚持到最后，你会发现，不管是你的知识储备、性格品质都会得到很大提升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文本框 2"/>
          <p:cNvSpPr/>
          <p:nvPr/>
        </p:nvSpPr>
        <p:spPr>
          <a:xfrm>
            <a:off x="1042920" y="4437000"/>
            <a:ext cx="77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交际圈扩大，每个人的发展都不是单一的发展，离不开群体。不可否认，你未来的发展与自己的朋友圈有着密切的联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文本框 2"/>
          <p:cNvSpPr/>
          <p:nvPr/>
        </p:nvSpPr>
        <p:spPr>
          <a:xfrm>
            <a:off x="1042920" y="2060640"/>
            <a:ext cx="77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对于我们工艺这个专业，就我了解到同学的就业情况，才刚毕业就有些同学从事了其他行业。原因何在，是因为我们本科阶段学的范围太宽，好像就业面很广，其实不然。如果你喜欢本专业，你不想从事本专业工作么？。当我们读研后，将会有自己的研究方向，以后工作便更有针对性，从事本专业的机会将会大大增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86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7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 Box 3"/>
          <p:cNvSpPr/>
          <p:nvPr/>
        </p:nvSpPr>
        <p:spPr>
          <a:xfrm>
            <a:off x="104292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290" name="矩形 9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我的建议和推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菱形 10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文本框 1"/>
          <p:cNvSpPr/>
          <p:nvPr/>
        </p:nvSpPr>
        <p:spPr>
          <a:xfrm>
            <a:off x="985680" y="1763640"/>
            <a:ext cx="73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准备不在于早，而在于是否真正用心准备，是否真正全身心投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流程图: 终止 12"/>
          <p:cNvSpPr/>
          <p:nvPr/>
        </p:nvSpPr>
        <p:spPr>
          <a:xfrm>
            <a:off x="1403280" y="727200"/>
            <a:ext cx="5256360" cy="503280"/>
          </a:xfrm>
          <a:prstGeom prst="flowChartTerminator">
            <a:avLst/>
          </a:prstGeom>
          <a:solidFill>
            <a:srgbClr val="e3e9db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我的四点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文本框 1"/>
          <p:cNvSpPr/>
          <p:nvPr/>
        </p:nvSpPr>
        <p:spPr>
          <a:xfrm>
            <a:off x="1042920" y="2556000"/>
            <a:ext cx="73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定要制定一个适合自己的复习计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文本框 1"/>
          <p:cNvSpPr/>
          <p:nvPr/>
        </p:nvSpPr>
        <p:spPr>
          <a:xfrm>
            <a:off x="1042920" y="3274920"/>
            <a:ext cx="73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身体是革命的本钱，懂得劳逸结合。保证好自己的睡眠时间，最好每周有两到三次的身体锻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1"/>
          <p:cNvSpPr/>
          <p:nvPr/>
        </p:nvSpPr>
        <p:spPr>
          <a:xfrm>
            <a:off x="1042920" y="4282920"/>
            <a:ext cx="73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态，从始至终保持平稳的心态至关重要，心浮气躁乃学习大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7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98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9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Text Box 3"/>
          <p:cNvSpPr/>
          <p:nvPr/>
        </p:nvSpPr>
        <p:spPr>
          <a:xfrm>
            <a:off x="104292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302" name="矩形 9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我的建议和推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菱形 10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文本框 1"/>
          <p:cNvSpPr/>
          <p:nvPr/>
        </p:nvSpPr>
        <p:spPr>
          <a:xfrm>
            <a:off x="1100160" y="1314360"/>
            <a:ext cx="732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学：我们专业都是考数二（线代加高数），当然不管数几，数学终究是重中之重。每年都有因为总分上线，而卡到数学 的同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推荐书籍：以同济版教材为纲，前期汤家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张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题配合李永乐线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后期回归历年真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语：长期积累的过程，每天花点时间记点单词、读点文章，保持对英语学习的感觉很重要。建议在暑假开始做真题，把真题吃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推荐书籍：考研单词一本  作文一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政治：不建议复习太早，暑假结束后正式复习不晚，以红宝书为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推荐书籍：肖秀荣考研政治系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业课：建议从暑假开始，课本至少复习两遍，把课后题做两边。然后买报考学校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的初试题，越详细的越好，把它做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上是我针对未报班的同学，对于报班的同学，我想说既然报了班，就跟着班走，轻松些，书籍的话考研班会发很多，没必要再买太多。书不再多，而是要把自己手里的资料吃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流程图: 终止 12"/>
          <p:cNvSpPr/>
          <p:nvPr/>
        </p:nvSpPr>
        <p:spPr>
          <a:xfrm>
            <a:off x="1403280" y="727200"/>
            <a:ext cx="5256360" cy="503280"/>
          </a:xfrm>
          <a:prstGeom prst="flowChartTerminator">
            <a:avLst/>
          </a:prstGeom>
          <a:solidFill>
            <a:srgbClr val="e3e9db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复习方案和推荐书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307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8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9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310" name="矩形 7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考研并没有那么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菱形 8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文本框 1"/>
          <p:cNvSpPr/>
          <p:nvPr/>
        </p:nvSpPr>
        <p:spPr>
          <a:xfrm>
            <a:off x="1187280" y="148428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你们当中，我想可能会有同学有这样的想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：我现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都没过，英语这么差，怎么考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实考研英语和四六级并无多大关系，考研英语没有听力，我想许多同学之所以没有过四六级，就是败在英语听力上。说实话，我英语也不好，正是因为考研复习英语才过了四级，听力成绩依然很低。考研的路上，是不是还有意想不到的收获，我的几位同学也正是考研复习才通过了英语六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图片 1" descr=""/>
          <p:cNvPicPr/>
          <p:nvPr/>
        </p:nvPicPr>
        <p:blipFill>
          <a:blip r:embed="rId1"/>
          <a:stretch/>
        </p:blipFill>
        <p:spPr>
          <a:xfrm>
            <a:off x="4476600" y="176040"/>
            <a:ext cx="4667400" cy="3343320"/>
          </a:xfrm>
          <a:prstGeom prst="rect">
            <a:avLst/>
          </a:prstGeom>
          <a:ln w="0">
            <a:noFill/>
          </a:ln>
        </p:spPr>
      </p:pic>
      <p:sp>
        <p:nvSpPr>
          <p:cNvPr id="1314" name="TextBox 3"/>
          <p:cNvSpPr/>
          <p:nvPr/>
        </p:nvSpPr>
        <p:spPr>
          <a:xfrm>
            <a:off x="1187280" y="3860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：我曾挂在高数上，高数那么难，怎么办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所以觉得难，是因为我们之前没有去认真听好老师的讲课，一旦落下几章，后面便像听天书一样。高数是一门连贯性很强的课程，当我们自学的时候，你会发现，学好上一章，下一章的内容似乎就是让一章节的延伸，慢慢的就找到了学习的乐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316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7" name="图片 5" descr=""/>
            <p:cNvPicPr/>
            <p:nvPr/>
          </p:nvPicPr>
          <p:blipFill>
            <a:blip r:embed="rId2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30T13:55:32Z</dcterms:created>
  <dc:creator>微软用户</dc:creator>
  <dc:description/>
  <cp:keywords/>
  <dc:language>en-US</dc:language>
  <cp:lastModifiedBy>kk</cp:lastModifiedBy>
  <dcterms:modified xsi:type="dcterms:W3CDTF">2016-04-27T09:13:26Z</dcterms:modified>
  <cp:revision>1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